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3.jpeg" ContentType="image/jpeg"/>
  <Override PartName="/ppt/media/image12.gif" ContentType="image/gif"/>
  <Override PartName="/ppt/media/image3.jpeg" ContentType="image/jpeg"/>
  <Override PartName="/ppt/media/image10.gif" ContentType="image/gif"/>
  <Override PartName="/ppt/media/image9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wmf" ContentType="image/x-wmf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BD30-EBEB-436B-A9A3-ECE30664B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4796-A498-444B-8962-0E5ED1D8D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013E-8DF0-4BF0-92D4-157FAD747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3661-7955-4ADA-85CE-BE0B41252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4EEE-0272-4BB7-93B7-31ADE2E34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7771-A05D-4B8F-9833-42CE9E33F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4679-711C-4373-870B-628F0BF8B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ED37-2771-4BD2-9196-FD8301E03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5FDE-B83A-4CBE-8F43-6066F5B20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8E05-F3C3-4C4E-A04A-202EAB0C5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2CEF-667E-4CB0-9C2D-C19E88F4E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27A7-B2F1-47B1-8454-C0A797371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E50F-2D2D-4BB4-84EE-9D9D553E9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6F5E-C95F-4D68-8710-64148F4E4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4C3A-80CB-4630-9478-E4EB37E72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9542-B735-42EA-96DC-D0F2B96B9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A147-998D-4F2D-A2DF-7825819A5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D643-B125-4BBC-A0A3-59E52BF99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3094-A6D1-4869-8E4F-940A07D9F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BD4D-0BA0-4461-A418-6548CE5D1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5E93-5A73-4099-88E0-0B5B95770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CD55-E59B-4264-881A-5E4CCADE0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DFE7-C257-4653-B4ED-DD36D4082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F179-D297-451D-B120-A61FFDC03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ADF7-EB91-4C62-9052-8934B64FF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EBCF-2C56-460D-AC84-4C4D817C1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D25C-E5C2-4BE5-8553-C99AEEFAB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FA6F-0550-43CF-8CBF-DC5606146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9316-07C0-420C-A716-F947035C2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9BF8-2088-4471-9665-00835FB84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D71F-C21B-4736-853D-98DF12D61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FDDB-8CFD-41EB-BACE-1E7AFCE98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2372-7225-45D2-B169-C8376F26D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DF9D-3710-46A1-A111-0D7CFD2D5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4611-E761-474F-9A61-02D25FF72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7AF7-EF4F-48EB-86DC-69619A692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ED57-0892-4E82-A853-C37C1F95F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7158-3471-4146-AB89-91032349D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69A0-33FB-4482-8325-01A1DC864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6A96-13D8-48AF-9395-124F46F49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CE83-2021-494E-A8A6-90FF7B0DC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1A1B-4303-4EED-A72A-2E78E8A42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9991-FB65-45DF-83A7-EF6EA188C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287C-995C-4770-8990-988B25B75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CA1F-E509-4D84-95B0-133A6AB14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639C-A1D0-4417-A814-14A3712D3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AA69-7226-41F3-A582-174E5D6B8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373E-532D-4383-A398-EFBFA3EC9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F2BF-0116-4296-9A90-8219E108E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95C0-946D-4289-AB46-0FF5F67F7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97CD-3F3F-4F45-8C5F-493D4D25E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2486-405B-4AB9-BBDD-BC5CEDFB1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86A3-71D4-470C-B210-039596976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6525-E319-41A9-9955-482A8CCBB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1325-F4C6-4940-B863-2E98EB6AC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D2D3-4121-43E6-BC10-ADB166E36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1DAE-19BA-45B1-977D-398AD8B4A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A0D1-0CB1-4178-BE5A-01E6A86D0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5D7E-6076-4877-A2EC-41C75D4F6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1066-957D-48CA-8038-04850329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B3E8-1EFF-4C61-9563-2B3AE6143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F8AC-9EF3-48E2-981F-24468621D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36243-0CA3-40E0-8D0A-0D3D6BDAB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76C39-10CD-4A40-810A-FB0220A1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8BABE-AA0F-42CA-B39F-A93B198F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75907-E6A1-4F38-B8F4-FB3B37B8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A97AA-0E91-4A0D-8639-BCA87632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59A01-068A-47D4-8473-8AD0F976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0BA83-F6C7-4386-BD01-212012FE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8420-AF48-47DD-8751-894FD616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C52F9-1C50-45E6-9D3F-32489A03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6CD61-F998-45E1-8AA9-0277104F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FF174-D917-45BE-B728-CF500DBE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5C446-D9D1-4645-B8D2-2830B90BB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6AFE2-6BCB-49EE-8A02-FF4090555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F022-180A-42BF-A0D1-710B1FAB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379A-EF40-450B-8938-DB7104E1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256B-1CA1-4B62-9599-670DC3C4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2BA7-F289-4779-93EE-D3C6426F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86E1-3032-4F23-A383-2A59C1FD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BF78-2505-42C5-88D4-9D87AEE5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B047-4830-4CA2-8B46-4404D54C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325C-97EE-434C-8938-8A284220B72A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7FDC-58B5-4D87-9B73-A653BCE5F4EB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Tanulásra képes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rendszerekről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Vezérlés és szabályozá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971640" y="1844640"/>
            <a:ext cx="7086600" cy="29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Vezérlés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megadom, mit csinálj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zabályozás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beavatkozás az „elvárt” és „valós” összevetése alapjá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1187280" y="2565360"/>
            <a:ext cx="1440000" cy="93492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sináld ez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AutoShape 9"/>
          <p:cNvSpPr/>
          <p:nvPr/>
        </p:nvSpPr>
        <p:spPr>
          <a:xfrm>
            <a:off x="3203640" y="2565360"/>
            <a:ext cx="1439640" cy="934920"/>
          </a:xfrm>
          <a:custGeom>
            <a:avLst/>
            <a:gdLst>
              <a:gd name="textAreaLeft" fmla="*/ 180000 w 1439640"/>
              <a:gd name="textAreaRight" fmla="*/ 1260000 w 143964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sináld ez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5076720" y="2565360"/>
            <a:ext cx="1440000" cy="93492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sináld ez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3492360" y="44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zakas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Line 13"/>
          <p:cNvSpPr/>
          <p:nvPr/>
        </p:nvSpPr>
        <p:spPr>
          <a:xfrm>
            <a:off x="1835280" y="47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Line 14"/>
          <p:cNvSpPr/>
          <p:nvPr/>
        </p:nvSpPr>
        <p:spPr>
          <a:xfrm>
            <a:off x="5435640" y="47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6084720" y="479736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AutoShape 16"/>
          <p:cNvSpPr/>
          <p:nvPr/>
        </p:nvSpPr>
        <p:spPr>
          <a:xfrm>
            <a:off x="4356000" y="5445000"/>
            <a:ext cx="1152720" cy="576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szabályzó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Line 19"/>
          <p:cNvSpPr/>
          <p:nvPr/>
        </p:nvSpPr>
        <p:spPr>
          <a:xfrm flipH="1">
            <a:off x="5435280" y="573408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Line 20"/>
          <p:cNvSpPr/>
          <p:nvPr/>
        </p:nvSpPr>
        <p:spPr>
          <a:xfrm flipH="1">
            <a:off x="2700000" y="5734080"/>
            <a:ext cx="158436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Line 21"/>
          <p:cNvSpPr/>
          <p:nvPr/>
        </p:nvSpPr>
        <p:spPr>
          <a:xfrm flipV="1">
            <a:off x="2700360" y="486864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Oval 22"/>
          <p:cNvSpPr/>
          <p:nvPr/>
        </p:nvSpPr>
        <p:spPr>
          <a:xfrm>
            <a:off x="2627280" y="4724280"/>
            <a:ext cx="144360" cy="1447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Line 23"/>
          <p:cNvSpPr/>
          <p:nvPr/>
        </p:nvSpPr>
        <p:spPr>
          <a:xfrm>
            <a:off x="2411280" y="45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Line 24"/>
          <p:cNvSpPr/>
          <p:nvPr/>
        </p:nvSpPr>
        <p:spPr>
          <a:xfrm flipV="1">
            <a:off x="2484360" y="450828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Line 25"/>
          <p:cNvSpPr/>
          <p:nvPr/>
        </p:nvSpPr>
        <p:spPr>
          <a:xfrm flipH="1">
            <a:off x="2842920" y="49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Object 2"/>
          <p:cNvGraphicFramePr/>
          <p:nvPr/>
        </p:nvGraphicFramePr>
        <p:xfrm>
          <a:off x="684360" y="1557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57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Szabályozá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zabályozás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részletesebb ábrázol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3635280" y="306864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zakas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 flipV="1">
            <a:off x="4356000" y="443700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>
            <a:off x="5651640" y="335772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6804000" y="335772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AutoShape 13"/>
          <p:cNvSpPr/>
          <p:nvPr/>
        </p:nvSpPr>
        <p:spPr>
          <a:xfrm>
            <a:off x="2340000" y="4005360"/>
            <a:ext cx="115236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szabályzó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Line 14"/>
          <p:cNvSpPr/>
          <p:nvPr/>
        </p:nvSpPr>
        <p:spPr>
          <a:xfrm flipH="1">
            <a:off x="6084720" y="4292640"/>
            <a:ext cx="7192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Oval 17"/>
          <p:cNvSpPr/>
          <p:nvPr/>
        </p:nvSpPr>
        <p:spPr>
          <a:xfrm>
            <a:off x="4284720" y="429264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Line 18"/>
          <p:cNvSpPr/>
          <p:nvPr/>
        </p:nvSpPr>
        <p:spPr>
          <a:xfrm>
            <a:off x="4643280" y="450864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Line 19"/>
          <p:cNvSpPr/>
          <p:nvPr/>
        </p:nvSpPr>
        <p:spPr>
          <a:xfrm flipV="1">
            <a:off x="4716360" y="443664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Line 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AutoShape 21"/>
          <p:cNvSpPr/>
          <p:nvPr/>
        </p:nvSpPr>
        <p:spPr>
          <a:xfrm>
            <a:off x="4932360" y="4005360"/>
            <a:ext cx="1152360" cy="5760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ér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Text Box 22"/>
          <p:cNvSpPr/>
          <p:nvPr/>
        </p:nvSpPr>
        <p:spPr>
          <a:xfrm>
            <a:off x="6012000" y="2708280"/>
            <a:ext cx="187308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zabályozott érté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Line 23"/>
          <p:cNvSpPr/>
          <p:nvPr/>
        </p:nvSpPr>
        <p:spPr>
          <a:xfrm>
            <a:off x="4572000" y="2565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Line 24"/>
          <p:cNvSpPr/>
          <p:nvPr/>
        </p:nvSpPr>
        <p:spPr>
          <a:xfrm flipH="1">
            <a:off x="4427640" y="436572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4572000" y="2565360"/>
            <a:ext cx="86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zava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Text Box 26"/>
          <p:cNvSpPr/>
          <p:nvPr/>
        </p:nvSpPr>
        <p:spPr>
          <a:xfrm>
            <a:off x="4284720" y="4005360"/>
            <a:ext cx="86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való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Line 27"/>
          <p:cNvSpPr/>
          <p:nvPr/>
        </p:nvSpPr>
        <p:spPr>
          <a:xfrm flipH="1">
            <a:off x="3492000" y="436572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Line 28"/>
          <p:cNvSpPr/>
          <p:nvPr/>
        </p:nvSpPr>
        <p:spPr>
          <a:xfrm>
            <a:off x="1908000" y="3357720"/>
            <a:ext cx="172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Line 30"/>
          <p:cNvSpPr/>
          <p:nvPr/>
        </p:nvSpPr>
        <p:spPr>
          <a:xfrm>
            <a:off x="2627280" y="494172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Line 31"/>
          <p:cNvSpPr/>
          <p:nvPr/>
        </p:nvSpPr>
        <p:spPr>
          <a:xfrm>
            <a:off x="1908000" y="3357720"/>
            <a:ext cx="0" cy="86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Text Box 32"/>
          <p:cNvSpPr/>
          <p:nvPr/>
        </p:nvSpPr>
        <p:spPr>
          <a:xfrm>
            <a:off x="3492360" y="4581360"/>
            <a:ext cx="8654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lvá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Line 33"/>
          <p:cNvSpPr/>
          <p:nvPr/>
        </p:nvSpPr>
        <p:spPr>
          <a:xfrm flipV="1">
            <a:off x="2627280" y="4581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Line 34"/>
          <p:cNvSpPr/>
          <p:nvPr/>
        </p:nvSpPr>
        <p:spPr>
          <a:xfrm>
            <a:off x="1908000" y="422100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Text Box 35"/>
          <p:cNvSpPr/>
          <p:nvPr/>
        </p:nvSpPr>
        <p:spPr>
          <a:xfrm>
            <a:off x="3419640" y="4005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ltér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Object 2"/>
          <p:cNvGraphicFramePr/>
          <p:nvPr/>
        </p:nvGraphicFramePr>
        <p:xfrm>
          <a:off x="468360" y="155736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Szabályozá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zabályozás Adaptív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változó szakasz-tulajdonságo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zakas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AutoShape 10"/>
          <p:cNvSpPr/>
          <p:nvPr/>
        </p:nvSpPr>
        <p:spPr>
          <a:xfrm>
            <a:off x="4427640" y="3645000"/>
            <a:ext cx="115236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állapo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Line 11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Line 12"/>
          <p:cNvSpPr/>
          <p:nvPr/>
        </p:nvSpPr>
        <p:spPr>
          <a:xfrm>
            <a:off x="5076720" y="4221000"/>
            <a:ext cx="0" cy="21600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Line 13"/>
          <p:cNvSpPr/>
          <p:nvPr/>
        </p:nvSpPr>
        <p:spPr>
          <a:xfrm flipV="1">
            <a:off x="2771640" y="3068280"/>
            <a:ext cx="1800" cy="115236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Oval 14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Line 15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Line 16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Line 17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971640" y="479736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zakasz adott, modellje teljesen ismert, a szakasz tulajdonságai változhatnak, amit a szabályzóban található modell köv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Line 19"/>
          <p:cNvSpPr/>
          <p:nvPr/>
        </p:nvSpPr>
        <p:spPr>
          <a:xfrm>
            <a:off x="3276720" y="2997360"/>
            <a:ext cx="0" cy="100800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Line 21"/>
          <p:cNvSpPr/>
          <p:nvPr/>
        </p:nvSpPr>
        <p:spPr>
          <a:xfrm>
            <a:off x="3276720" y="4005360"/>
            <a:ext cx="115092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AutoShape 22"/>
          <p:cNvSpPr/>
          <p:nvPr/>
        </p:nvSpPr>
        <p:spPr>
          <a:xfrm>
            <a:off x="2268360" y="4149720"/>
            <a:ext cx="1152720" cy="576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szabályzó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Line 23"/>
          <p:cNvSpPr/>
          <p:nvPr/>
        </p:nvSpPr>
        <p:spPr>
          <a:xfrm flipH="1">
            <a:off x="3419280" y="4437000"/>
            <a:ext cx="1657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Text Box 24"/>
          <p:cNvSpPr/>
          <p:nvPr/>
        </p:nvSpPr>
        <p:spPr>
          <a:xfrm>
            <a:off x="4572000" y="2349360"/>
            <a:ext cx="86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zava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Line 25"/>
          <p:cNvSpPr/>
          <p:nvPr/>
        </p:nvSpPr>
        <p:spPr>
          <a:xfrm>
            <a:off x="4500720" y="2276640"/>
            <a:ext cx="0" cy="433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Object 2"/>
          <p:cNvGraphicFramePr/>
          <p:nvPr/>
        </p:nvGraphicFramePr>
        <p:xfrm>
          <a:off x="468360" y="1557360"/>
          <a:ext cx="7848720" cy="49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784872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Visszacsatolások – P 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Kétféle visszacsatolás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egatív és pozitív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Text Box 18"/>
          <p:cNvSpPr/>
          <p:nvPr/>
        </p:nvSpPr>
        <p:spPr>
          <a:xfrm>
            <a:off x="971640" y="2565360"/>
            <a:ext cx="37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egatív: folyamatos működésű rendszerekben a belső szabályozás negatív visszacsatolással működi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55" name="Picture 19" descr="nvisz"/>
          <p:cNvPicPr/>
          <p:nvPr/>
        </p:nvPicPr>
        <p:blipFill>
          <a:blip r:embed="rId3"/>
          <a:stretch/>
        </p:blipFill>
        <p:spPr>
          <a:xfrm>
            <a:off x="4788000" y="2637000"/>
            <a:ext cx="3022560" cy="109692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20"/>
          <p:cNvSpPr/>
          <p:nvPr/>
        </p:nvSpPr>
        <p:spPr>
          <a:xfrm>
            <a:off x="1116000" y="4292640"/>
            <a:ext cx="37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ozitív: a legkisebb változás is aránytalanul nagy változást idéz elő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AutoShape 21"/>
          <p:cNvSpPr/>
          <p:nvPr/>
        </p:nvSpPr>
        <p:spPr>
          <a:xfrm>
            <a:off x="6012000" y="4365720"/>
            <a:ext cx="720720" cy="647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Text Box 27"/>
          <p:cNvSpPr/>
          <p:nvPr/>
        </p:nvSpPr>
        <p:spPr>
          <a:xfrm>
            <a:off x="1547640" y="537372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általában negatív asszociáció: rombol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Visszacsatolások - pozitív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ozitív visszacsatolás szükségszerűsége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1116000" y="2924280"/>
            <a:ext cx="7201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zabályozás nélkül: atombomb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zabályozással: atomerőmű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energianyer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1187280" y="3860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iológia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2340000" y="3860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véralvad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3851280" y="3860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vélhullás (apoptózi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68" name="Picture 11" descr="gomba"/>
          <p:cNvPicPr/>
          <p:nvPr/>
        </p:nvPicPr>
        <p:blipFill>
          <a:blip r:embed="rId3"/>
          <a:stretch/>
        </p:blipFill>
        <p:spPr>
          <a:xfrm>
            <a:off x="6156360" y="1844640"/>
            <a:ext cx="1944720" cy="1467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2" descr="apeiler"/>
          <p:cNvPicPr/>
          <p:nvPr/>
        </p:nvPicPr>
        <p:blipFill>
          <a:blip r:embed="rId4"/>
          <a:stretch/>
        </p:blipFill>
        <p:spPr>
          <a:xfrm>
            <a:off x="6156360" y="3789360"/>
            <a:ext cx="1944720" cy="12970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3" descr="animalcell"/>
          <p:cNvPicPr/>
          <p:nvPr/>
        </p:nvPicPr>
        <p:blipFill>
          <a:blip r:embed="rId5"/>
          <a:stretch/>
        </p:blipFill>
        <p:spPr>
          <a:xfrm>
            <a:off x="2700360" y="4437000"/>
            <a:ext cx="2401920" cy="20541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3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3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Visszacsatolás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ozitív és negatív együtt: instabilt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1116000" y="450864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Olyan szabályozott körben, ahol pozitív és negatív visszacsatolások is vannak, az instabilitás valószínűsége nagyobb mint null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1116000" y="292428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stabilitás: annak a lehetősége, hogy a rendszer irányíthatatlanná, szabályozhatatlanná válik, vagy olyan állapotba jut, ami számunkra kedvezőtlen és onnan visszahozni nem leh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8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Visszacsatolás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ozitív és negatív együtt: oszcillálás lehetőség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1042920" y="249228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élda: rókák és nyulak száma egy relatív zárt rendszerb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84" name="Picture 10" descr="foxrabbit"/>
          <p:cNvPicPr/>
          <p:nvPr/>
        </p:nvPicPr>
        <p:blipFill>
          <a:blip r:embed="rId3"/>
          <a:stretch/>
        </p:blipFill>
        <p:spPr>
          <a:xfrm>
            <a:off x="2411280" y="3068640"/>
            <a:ext cx="3961080" cy="30211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Visszacsatolás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87" name="Object 8"/>
          <p:cNvGraphicFramePr/>
          <p:nvPr/>
        </p:nvGraphicFramePr>
        <p:xfrm>
          <a:off x="324000" y="1341360"/>
          <a:ext cx="8208720" cy="444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41360"/>
                    <a:ext cx="820872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Fázisté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971640" y="184464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Fázistér technika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rendszer változóit absztakt térben jelenítjük meg, amelyben egyetlen pont leírja az egész rendsze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94" name="Picture 7" descr="lorenz"/>
          <p:cNvPicPr/>
          <p:nvPr/>
        </p:nvPicPr>
        <p:blipFill>
          <a:blip r:embed="rId3"/>
          <a:stretch/>
        </p:blipFill>
        <p:spPr>
          <a:xfrm>
            <a:off x="3059280" y="2997360"/>
            <a:ext cx="3314520" cy="28573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Object 2"/>
          <p:cNvGraphicFramePr/>
          <p:nvPr/>
        </p:nvGraphicFramePr>
        <p:xfrm>
          <a:off x="684360" y="1557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57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3. Analíz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900000" y="234936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XVI-XVII. század: komplex rendszerek megismerésének módja: vegyük szét elemekre, az elemeket vizsgáljuk me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971640" y="3645000"/>
            <a:ext cx="72007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Biológiában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ez nem vezet eredmény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éteznek „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kiemelkedő tulajdonságok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”</a:t>
            </a:r>
            <a:br>
              <a:rPr sz="1800"/>
            </a:b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(emergente Eigenschaften) : amelyek megjelenése nem magyarázható meg a részek tulajdonságaiva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971640" y="54450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ibniz: a tanulás képessége a „késszé összeálló rendszer tulajdonsága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539640" y="3645000"/>
            <a:ext cx="7848720" cy="59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Times New Roman"/>
              </a:rPr>
              <a:t>Copyright (c) Varga György, 2010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539640" y="1413000"/>
            <a:ext cx="7696440" cy="16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Tanulásra képes rendszerek az IT architektúrában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539640" y="4581360"/>
            <a:ext cx="769644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e3e3ff"/>
                </a:solidFill>
                <a:latin typeface="Tahoma"/>
              </a:rPr>
              <a:t>www.xplanet.hu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Tanulóképes rendszerek tulajdonságai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900000" y="2205000"/>
            <a:ext cx="746784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óképes rendszere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óképes rendszernek kezdetben több stabilitási pontja van (a fázistérben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anulás folyamata által jut el egy stabil pontból egy másik esetleg stabil pontb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anulás feltételez önismeretet és egy modellt a külvilágró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z önismeret itt: mivel, hogyan reagál a rendszer, a reagálásnak milyen visszahatása van a rendszer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önjavítás képesség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mi elromlott, ki kell javíta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jobb reakció érdekében: működő egységet hatékonyabbá ten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Tanulóképes rendszerek tulajdonságai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1187280" y="5299920"/>
            <a:ext cx="6337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em determinisztikus dönt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12" name="Picture 9" descr="untitled2"/>
          <p:cNvPicPr/>
          <p:nvPr/>
        </p:nvPicPr>
        <p:blipFill>
          <a:blip r:embed="rId3"/>
          <a:stretch/>
        </p:blipFill>
        <p:spPr>
          <a:xfrm>
            <a:off x="3059280" y="3500280"/>
            <a:ext cx="2485800" cy="1494000"/>
          </a:xfrm>
          <a:prstGeom prst="rect">
            <a:avLst/>
          </a:prstGeom>
          <a:ln w="0">
            <a:noFill/>
          </a:ln>
        </p:spPr>
      </p:pic>
      <p:sp>
        <p:nvSpPr>
          <p:cNvPr id="313" name="AutoShape 16"/>
          <p:cNvSpPr/>
          <p:nvPr/>
        </p:nvSpPr>
        <p:spPr>
          <a:xfrm flipV="1">
            <a:off x="2268360" y="4075920"/>
            <a:ext cx="432000" cy="792360"/>
          </a:xfrm>
          <a:prstGeom prst="upArrow">
            <a:avLst>
              <a:gd name="adj1" fmla="val 50000"/>
              <a:gd name="adj2" fmla="val 45854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en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AutoShape 18"/>
          <p:cNvSpPr/>
          <p:nvPr/>
        </p:nvSpPr>
        <p:spPr>
          <a:xfrm flipV="1">
            <a:off x="5940360" y="4075920"/>
            <a:ext cx="432000" cy="792360"/>
          </a:xfrm>
          <a:prstGeom prst="upArrow">
            <a:avLst>
              <a:gd name="adj1" fmla="val 50000"/>
              <a:gd name="adj2" fmla="val 45854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fén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AutoShape 19"/>
          <p:cNvSpPr/>
          <p:nvPr/>
        </p:nvSpPr>
        <p:spPr>
          <a:xfrm flipH="1">
            <a:off x="1258920" y="3573360"/>
            <a:ext cx="1728720" cy="576360"/>
          </a:xfrm>
          <a:prstGeom prst="rightArrow">
            <a:avLst>
              <a:gd name="adj1" fmla="val 50000"/>
              <a:gd name="adj2" fmla="val 74984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több fén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AutoShape 20"/>
          <p:cNvSpPr/>
          <p:nvPr/>
        </p:nvSpPr>
        <p:spPr>
          <a:xfrm>
            <a:off x="5724360" y="3573360"/>
            <a:ext cx="1872000" cy="576360"/>
          </a:xfrm>
          <a:prstGeom prst="rightArrow">
            <a:avLst>
              <a:gd name="adj1" fmla="val 50000"/>
              <a:gd name="adj2" fmla="val 81199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több en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Text Box 21"/>
          <p:cNvSpPr/>
          <p:nvPr/>
        </p:nvSpPr>
        <p:spPr>
          <a:xfrm>
            <a:off x="900000" y="2205000"/>
            <a:ext cx="746784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napozó egysejtű esete (Gánti Tibor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tt túl sok egysejtű él: kevés ennivaló, kevés fény.        Merre megy barátunk?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8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Tanulóképes rendszerek tulajdonságai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900000" y="2205000"/>
            <a:ext cx="74678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óképes rendszerekb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önjavítás képessége a biológiában: pl. biceps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1187280" y="5157000"/>
            <a:ext cx="6337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Hogyan nőnek az izomok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Tanulóképes rendszerek tulajdonságai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900000" y="2205000"/>
            <a:ext cx="746784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óképes rendszerekb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önjavítás képessége:</a:t>
            </a:r>
            <a:br>
              <a:rPr sz="1800"/>
            </a:b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„működő egységet hatékonyabbá tenni” nem létezhet pozitív visszacsatolás nélkü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1258920" y="4076280"/>
            <a:ext cx="6408720" cy="642600"/>
          </a:xfrm>
          <a:prstGeom prst="rect">
            <a:avLst/>
          </a:prstGeom>
          <a:solidFill>
            <a:srgbClr val="0000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anulásra képes rendszerekben kötelezően létezik pozitív visszacsatol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0" name="Text Box 8"/>
          <p:cNvSpPr/>
          <p:nvPr/>
        </p:nvSpPr>
        <p:spPr>
          <a:xfrm>
            <a:off x="1258920" y="4941000"/>
            <a:ext cx="6408720" cy="368280"/>
          </a:xfrm>
          <a:prstGeom prst="rect">
            <a:avLst/>
          </a:prstGeom>
          <a:solidFill>
            <a:srgbClr val="0000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Pozitív visszacsatolás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instabilit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1258920" y="5569200"/>
            <a:ext cx="6337440" cy="6998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tanulásra képes rendszerek – kivétel nélkül –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instabil rendszere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Mikor tanulóképes egy rendszer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900000" y="21337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Mikor tanulóképes egy rendszer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1116000" y="4292640"/>
            <a:ext cx="6934320" cy="916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cc00"/>
                </a:solidFill>
                <a:latin typeface="Arial"/>
              </a:rPr>
              <a:t>Minden – analóg vezérléstechnikával leírt – tanuóképes rendszerben van pozitív visszacsatolás, ezért ilyen  modellben leírt rendszer instabil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Text Box 7"/>
          <p:cNvSpPr/>
          <p:nvPr/>
        </p:nvSpPr>
        <p:spPr>
          <a:xfrm>
            <a:off x="1116000" y="35002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és ebben a folyamatban nem determinisztikus döntés is történik (trial&amp;error, „szubjektív”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1116000" y="306864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Ha változó körülményekhez jól tud igazod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0" name="Text Box 9"/>
          <p:cNvSpPr/>
          <p:nvPr/>
        </p:nvSpPr>
        <p:spPr>
          <a:xfrm>
            <a:off x="1116000" y="5373000"/>
            <a:ext cx="633744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anulás: önjavítás nem determinisztikus mód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Tanulóképes rendszerek tulajdonságai - összefoglalá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826920" y="2060640"/>
            <a:ext cx="7467840" cy="44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óképes rendszere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óképes rendszer instabil (a fázistérben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emdeterminisztikus döntésre kép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anulás folyamata által jut el egy közel stabil pontból egy másik közel stabil pontb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anulás feltételez önismeretet és egy modellt a külvilágró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z önismeret itt: mivel, hogyan reagál a rendszer, a reagálásnak milyen visszahatása van a rendszer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önjavítás képesség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mi elromlott, ki kell javíta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jobb reakció érdekében: működő egységet hatékonyabbá ten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A tanulás folyamata nem determiniszikus és nem reprodukálható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6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1 Nemlineáris egyenlete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2 Fraktálo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em mindenkinek tetszik, de szükségszerű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em lineáris egyenletek matematikája (káoszelmélet)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971640" y="3141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emlineáris rendszerek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melyeket nem lehet lineáris egyenletekkel leírni: pl. gázok turbulens viselkedés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1" name="Text Box 6"/>
          <p:cNvSpPr/>
          <p:nvPr/>
        </p:nvSpPr>
        <p:spPr>
          <a:xfrm>
            <a:off x="971640" y="18446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Hagyományos felfogás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ineáris egyenletek leírják a rendszert – folyamatos függvény, deriválható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971640" y="24922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emlineáris rendszerek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melyeket nem lehet lineáris egyenletekkel leírni: pl. gázok turbulens viselkedés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Text Box 8"/>
          <p:cNvSpPr/>
          <p:nvPr/>
        </p:nvSpPr>
        <p:spPr>
          <a:xfrm>
            <a:off x="1042920" y="3213000"/>
            <a:ext cx="7201080" cy="36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omplex rendszereket csak komplex függvényekkel lehet leírni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4" name="Text Box 9"/>
          <p:cNvSpPr/>
          <p:nvPr/>
        </p:nvSpPr>
        <p:spPr>
          <a:xfrm>
            <a:off x="2050920" y="3788640"/>
            <a:ext cx="5185080" cy="36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em: egyszerű determinisztikus fügvénny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5" name="Text Box 10"/>
          <p:cNvSpPr/>
          <p:nvPr/>
        </p:nvSpPr>
        <p:spPr>
          <a:xfrm>
            <a:off x="1619280" y="4507560"/>
            <a:ext cx="5761080" cy="1522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kezdeti feltételek apró változása a viselkedés nem gyanított gazdagságát adhatj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látszólagos kaotikus viselkedés rendezett strukúrákat, finom és szép ábrázatokat eredményezh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2" dur="3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1042920" y="1773360"/>
            <a:ext cx="708660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Visszacsatolás és iteráció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gyszerű iteráció nagy  komplexitást hozhat lét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élda:   x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kx(1-x) , ahol  0 &lt; x &lt; 1  (pék transzformáció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hetetlen megjósolni, bizonyos (nagy számú) lépés után       mi lesz x érté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1187280" y="486828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emlineáris egyenletek: a viselkedés pontos előrejelzése lehetetl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07520"/>
            <a:ext cx="77724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Kérése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684360" y="1844640"/>
            <a:ext cx="79930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obiltelefono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Hang- vagy képrögzíté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em begyakorolt – tartalom, összeállítá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Kérdés-válasz: egy mond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ki tudja a válasz, várjon fél perc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1042920" y="1773360"/>
            <a:ext cx="708660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Edward N.Lorenz(1963)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gyszerű három paraméteres egyenletrendszer meteorológiai előrejelzés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egfigyelés: rendkívül érzékeny a kezdeti paraméterek kicsi változására is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előrejelzés lehetetl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illangó-hatás(1979): „Brazilia felett egy pillangó szárnylebbenése akár egy tornádót is okozhat Texas felet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1476360" y="4795200"/>
            <a:ext cx="2374920" cy="103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x/dt = R(y-x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y/dt = x(P-z) – 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z/dt = xy - B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78" name="Picture 7" descr="lorenz"/>
          <p:cNvPicPr/>
          <p:nvPr/>
        </p:nvPicPr>
        <p:blipFill>
          <a:blip r:embed="rId3"/>
          <a:stretch/>
        </p:blipFill>
        <p:spPr>
          <a:xfrm>
            <a:off x="4572000" y="4508640"/>
            <a:ext cx="1728720" cy="14904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1042920" y="1773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egfigyelés: az előrejelzés lehetetlensége, hogy egy adott időpontban az attraktor a fázistér melyik pontján halad á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971640" y="5444280"/>
            <a:ext cx="7345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lőrejelzés lehetelensége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kaotikus rendszer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káoszelmél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85" name="Picture 7" descr="lorenz"/>
          <p:cNvPicPr/>
          <p:nvPr/>
        </p:nvPicPr>
        <p:blipFill>
          <a:blip r:embed="rId3"/>
          <a:stretch/>
        </p:blipFill>
        <p:spPr>
          <a:xfrm>
            <a:off x="1258920" y="2421000"/>
            <a:ext cx="3314520" cy="285732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8"/>
          <p:cNvSpPr/>
          <p:nvPr/>
        </p:nvSpPr>
        <p:spPr>
          <a:xfrm>
            <a:off x="1258920" y="5876280"/>
            <a:ext cx="6337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áosz elmélet === nemlineáris egyenletek matematikáj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87" name="Picture 9" descr="lorenz-3Dview"/>
          <p:cNvPicPr/>
          <p:nvPr/>
        </p:nvPicPr>
        <p:blipFill>
          <a:blip r:embed="rId4"/>
          <a:stretch/>
        </p:blipFill>
        <p:spPr>
          <a:xfrm>
            <a:off x="5076720" y="278136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Matematika- fraktálgeometri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1042920" y="1773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Benoit Mandelbrot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önmagukhoz hasonló geometriai alakok tanulmányozása (felhő: 7 nagyságrend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1619280" y="486828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Fraktálok: önmagukhoz hasonló alakzakok, önmagukat kicsinyítve tartalmazzá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4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Fraktálgeometria példá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1042920" y="1773360"/>
            <a:ext cx="70866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enger szőnyeg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ényszög közepét – oldalak szerint egyharmad arányban – kivágju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ierpinki háromszög</a:t>
            </a: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lyukas háromszö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99" name="Picture 7" descr="sierp-zoom"/>
          <p:cNvPicPr/>
          <p:nvPr/>
        </p:nvPicPr>
        <p:blipFill>
          <a:blip r:embed="rId3"/>
          <a:stretch/>
        </p:blipFill>
        <p:spPr>
          <a:xfrm>
            <a:off x="5867280" y="3645000"/>
            <a:ext cx="2033640" cy="20336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8" descr="Aniteppich"/>
          <p:cNvPicPr/>
          <p:nvPr/>
        </p:nvPicPr>
        <p:blipFill>
          <a:blip r:embed="rId4"/>
          <a:stretch/>
        </p:blipFill>
        <p:spPr>
          <a:xfrm>
            <a:off x="1258920" y="3500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1042920" y="1773360"/>
            <a:ext cx="7086600" cy="23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Gaston Julia (1918)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Julia halmaz Kc azon komplex számok halmaza, amelyekre az iterált négyzetes komplex fügvén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Qc(z) = z2 + 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orlátos mara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c := {c€C;   lim |Qnc(z)| &lt; 0-0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                                                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0-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08" name="Picture 5" descr="Julia_set"/>
          <p:cNvPicPr/>
          <p:nvPr/>
        </p:nvPicPr>
        <p:blipFill>
          <a:blip r:embed="rId1"/>
          <a:stretch/>
        </p:blipFill>
        <p:spPr>
          <a:xfrm>
            <a:off x="826920" y="1341360"/>
            <a:ext cx="7272360" cy="40896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11" name="Picture 5" descr="julia_red"/>
          <p:cNvPicPr/>
          <p:nvPr/>
        </p:nvPicPr>
        <p:blipFill>
          <a:blip r:embed="rId1"/>
          <a:stretch/>
        </p:blipFill>
        <p:spPr>
          <a:xfrm>
            <a:off x="1547640" y="1268280"/>
            <a:ext cx="5759640" cy="51087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14" name="Picture 5" descr="Mandel-Julia"/>
          <p:cNvPicPr/>
          <p:nvPr/>
        </p:nvPicPr>
        <p:blipFill>
          <a:blip r:embed="rId1"/>
          <a:stretch/>
        </p:blipFill>
        <p:spPr>
          <a:xfrm>
            <a:off x="1908000" y="1700280"/>
            <a:ext cx="4969080" cy="37306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17" name="Picture 5" descr="600px-Julia"/>
          <p:cNvPicPr/>
          <p:nvPr/>
        </p:nvPicPr>
        <p:blipFill>
          <a:blip r:embed="rId1"/>
          <a:stretch/>
        </p:blipFill>
        <p:spPr>
          <a:xfrm>
            <a:off x="2050920" y="1413000"/>
            <a:ext cx="5067360" cy="5067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8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Fraktálok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900000" y="21337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Milyen különbségek vannak az előző két kép között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3" name="Text Box 9"/>
          <p:cNvSpPr/>
          <p:nvPr/>
        </p:nvSpPr>
        <p:spPr>
          <a:xfrm>
            <a:off x="1403280" y="3788640"/>
            <a:ext cx="633744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ülönálló területek, vagy egy összefüggő ábr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07520"/>
            <a:ext cx="77724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Tartalo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Text Box 2053"/>
          <p:cNvSpPr/>
          <p:nvPr/>
        </p:nvSpPr>
        <p:spPr>
          <a:xfrm>
            <a:off x="684360" y="1844640"/>
            <a:ext cx="79930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anulásra képes rendszerekrő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Informatikai rendszer architektúrájának kérdései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Példák (IT architektúra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hol van még mit tanulni (mit csinálunk rosszul?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Összefoglalá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Rectangle 207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4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ndelbrot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8" name="Text Box 5"/>
          <p:cNvSpPr/>
          <p:nvPr/>
        </p:nvSpPr>
        <p:spPr>
          <a:xfrm>
            <a:off x="1042920" y="1773360"/>
            <a:ext cx="708660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andelbrot halmaz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zon komplex számok halmaza, amelyekre z = (o + i0) kezdőértékkel az iterált négyzetes komplex fügvén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Qc(z) = z2 + 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orlátos mara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c := {c€C;   lim |Qnc(0)| &lt; 0-0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                                                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0-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Text Box 6"/>
          <p:cNvSpPr/>
          <p:nvPr/>
        </p:nvSpPr>
        <p:spPr>
          <a:xfrm>
            <a:off x="1547640" y="4579920"/>
            <a:ext cx="5761080" cy="6998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andelbrot halmaz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Julia halmaz a z=0 kezdőértékk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0" name="Text Box 7"/>
          <p:cNvSpPr/>
          <p:nvPr/>
        </p:nvSpPr>
        <p:spPr>
          <a:xfrm>
            <a:off x="1547640" y="552384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Julia sejtése: ezek a halmazok összefüggő területet adna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Object 2"/>
          <p:cNvGraphicFramePr/>
          <p:nvPr/>
        </p:nvGraphicFramePr>
        <p:xfrm>
          <a:off x="684360" y="1628640"/>
          <a:ext cx="7848360" cy="47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628640"/>
                    <a:ext cx="784836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Miért érekes a Mandelbrot halmaz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971640" y="2133720"/>
            <a:ext cx="7086600" cy="34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Julia halmazt értékelhetjük úgy, mint egy fázistér-ábr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sak azok a Julia ábrák érdekesek, amelyekben a halmazelemek összefüggő területet alkotna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mennyiben egy rendszert csak ezen a területen belül engedjül létezni, a rendszer működőképes (korlátos) maradha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gy – nemlineáris egyenletekkel leírt – rendszer stabilitása nagyon érzékeny a pontos kezdeti feltételek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egjegyzés: nincs kijelentésünk a gyűjtőpontok (attraktor) számáról – Lorenz attraktor: 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1403280" y="5804640"/>
            <a:ext cx="576108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Mandelbrot halmaz szélei fraktálo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ndelbrot: alma-emberk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39" name="Picture 5" descr="Mandelbrot-Menge_farbig"/>
          <p:cNvPicPr/>
          <p:nvPr/>
        </p:nvPicPr>
        <p:blipFill>
          <a:blip r:embed="rId1"/>
          <a:stretch/>
        </p:blipFill>
        <p:spPr>
          <a:xfrm>
            <a:off x="1258920" y="1557360"/>
            <a:ext cx="6656400" cy="49928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Alma-emberke részle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42" name="Picture 5" descr="abfluss"/>
          <p:cNvPicPr/>
          <p:nvPr/>
        </p:nvPicPr>
        <p:blipFill>
          <a:blip r:embed="rId1"/>
          <a:stretch/>
        </p:blipFill>
        <p:spPr>
          <a:xfrm>
            <a:off x="1547640" y="1700280"/>
            <a:ext cx="5545440" cy="41590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Alma-emberke részle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45" name="Picture 5" descr="db_Chaos-Mandelbrot1"/>
          <p:cNvPicPr/>
          <p:nvPr/>
        </p:nvPicPr>
        <p:blipFill>
          <a:blip r:embed="rId1"/>
          <a:stretch/>
        </p:blipFill>
        <p:spPr>
          <a:xfrm>
            <a:off x="1258920" y="1557360"/>
            <a:ext cx="6337440" cy="49482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6. Szemléletbeli problémá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1042920" y="1773360"/>
            <a:ext cx="708660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anulás folyamatában döntések egy része nem determinisztiku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ha a döntés nem manifelsztálódik a külső vagy belső modellb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z „alkotó” soha nem tudja meg, mikor miért döntött a rendszer úgy ahogy tett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eljes tanulási folyamat nem ismételhető meg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eterminisztikusa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1332000" y="4941000"/>
            <a:ext cx="648000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z az a pont, ahol a műszaki embereket kirázza a hideg!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2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Ami kimarad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042920" y="1773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i az a jelenség vagy folyamat, ami jellemző a tanulóképes rendszerekre, és még nem volt róla szó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187280" y="3283920"/>
            <a:ext cx="6480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ire iszik a magyar ember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Ami kimarad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AutoShape 7"/>
          <p:cNvSpPr/>
          <p:nvPr/>
        </p:nvSpPr>
        <p:spPr>
          <a:xfrm>
            <a:off x="1403280" y="2133720"/>
            <a:ext cx="720720" cy="647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AutoShape 8"/>
          <p:cNvSpPr/>
          <p:nvPr/>
        </p:nvSpPr>
        <p:spPr>
          <a:xfrm>
            <a:off x="2700360" y="2205000"/>
            <a:ext cx="136692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észlel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AutoShape 9"/>
          <p:cNvSpPr/>
          <p:nvPr/>
        </p:nvSpPr>
        <p:spPr>
          <a:xfrm>
            <a:off x="2700360" y="3141720"/>
            <a:ext cx="136692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kocsm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AutoShape 10"/>
          <p:cNvSpPr/>
          <p:nvPr/>
        </p:nvSpPr>
        <p:spPr>
          <a:xfrm>
            <a:off x="4932360" y="3141720"/>
            <a:ext cx="136692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egbeszél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4" name="Rectangle 11"/>
          <p:cNvSpPr/>
          <p:nvPr/>
        </p:nvSpPr>
        <p:spPr>
          <a:xfrm>
            <a:off x="6804000" y="2276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tanulsá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5" name="Rectangle 12"/>
          <p:cNvSpPr/>
          <p:nvPr/>
        </p:nvSpPr>
        <p:spPr>
          <a:xfrm>
            <a:off x="4932360" y="4076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nem tanulsá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AutoShape 13"/>
          <p:cNvSpPr/>
          <p:nvPr/>
        </p:nvSpPr>
        <p:spPr>
          <a:xfrm>
            <a:off x="5003640" y="4941720"/>
            <a:ext cx="136692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felejt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7" name="Line 14"/>
          <p:cNvSpPr/>
          <p:nvPr/>
        </p:nvSpPr>
        <p:spPr>
          <a:xfrm>
            <a:off x="2340000" y="2421000"/>
            <a:ext cx="287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8" name="Line 15"/>
          <p:cNvSpPr/>
          <p:nvPr/>
        </p:nvSpPr>
        <p:spPr>
          <a:xfrm>
            <a:off x="3348000" y="270828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9" name="Line 16"/>
          <p:cNvSpPr/>
          <p:nvPr/>
        </p:nvSpPr>
        <p:spPr>
          <a:xfrm>
            <a:off x="4211640" y="335772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0" name="Line 17"/>
          <p:cNvSpPr/>
          <p:nvPr/>
        </p:nvSpPr>
        <p:spPr>
          <a:xfrm flipV="1">
            <a:off x="6443640" y="2707920"/>
            <a:ext cx="72072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Line 18"/>
          <p:cNvSpPr/>
          <p:nvPr/>
        </p:nvSpPr>
        <p:spPr>
          <a:xfrm>
            <a:off x="5651640" y="364500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Line 19"/>
          <p:cNvSpPr/>
          <p:nvPr/>
        </p:nvSpPr>
        <p:spPr>
          <a:xfrm>
            <a:off x="5651640" y="4508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00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6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80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3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Ami kimarad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7" name="Text Box 5"/>
          <p:cNvSpPr/>
          <p:nvPr/>
        </p:nvSpPr>
        <p:spPr>
          <a:xfrm>
            <a:off x="1042920" y="177336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Új környezetben a régi reakciók egy része felesleg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Amire nincs szükség: el kell felejte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8" name="Text Box 6"/>
          <p:cNvSpPr/>
          <p:nvPr/>
        </p:nvSpPr>
        <p:spPr>
          <a:xfrm>
            <a:off x="1187280" y="3283920"/>
            <a:ext cx="6480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felejtés tudatos is leh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9" name="Text Box 7"/>
          <p:cNvSpPr/>
          <p:nvPr/>
        </p:nvSpPr>
        <p:spPr>
          <a:xfrm>
            <a:off x="1187280" y="4075920"/>
            <a:ext cx="6480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ülönbséget kell tenni a lényeges és lényegtelen közöt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0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Ami kimarad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3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971640" y="2421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Lényegtelen – felejtés - észlelé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971640" y="4652280"/>
            <a:ext cx="648000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z észlelést tudatunk – a lényeges, lényegtelen alapján –  jelentősen befolyásolj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6" name="Text Box 8"/>
          <p:cNvSpPr/>
          <p:nvPr/>
        </p:nvSpPr>
        <p:spPr>
          <a:xfrm>
            <a:off x="1042920" y="2997360"/>
            <a:ext cx="70866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z, hogy mit tartunk lényegtelennek, észlelésünket is befolyásolja. Nagyon jelentőse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élda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Tanulásra képes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rendszerekről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97964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Önnek mi az elképzelése a tanulásról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7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8. Technikai rendszere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0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1" name="Text Box 8"/>
          <p:cNvSpPr/>
          <p:nvPr/>
        </p:nvSpPr>
        <p:spPr>
          <a:xfrm>
            <a:off x="971640" y="1844640"/>
            <a:ext cx="708660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Tanulóképes technikai rendszer reprodukciója (másolása)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óképes rendszer reprodukciója egyszerű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már „tanult” rendszer másolása csak akkor egyszerű, ha a rendszer működés közben is fizikailag jól körülhatárolt és elválaszható környezetétő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Text Box 9"/>
          <p:cNvSpPr/>
          <p:nvPr/>
        </p:nvSpPr>
        <p:spPr>
          <a:xfrm>
            <a:off x="1116000" y="400536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élda: tanított ideghálózat-szimuláció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(férfi-nő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3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8. Technikai rendszere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Text Box 5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Tanulóképes technikai rendszer önreprodukciója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nem foglalkozunk ve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Text Box 6"/>
          <p:cNvSpPr/>
          <p:nvPr/>
        </p:nvSpPr>
        <p:spPr>
          <a:xfrm>
            <a:off x="1116000" y="4005360"/>
            <a:ext cx="70866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zámítógép vírusok: adaptációra képes „alkotások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Kérdés: hogyan vizsgálják meg, hogy befogadót</a:t>
            </a:r>
            <a:br>
              <a:rPr sz="1800"/>
            </a:b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(az adott számítógépet) már megfertőződöt-e az adott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vírustól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9" name="Object 2"/>
          <p:cNvGraphicFramePr/>
          <p:nvPr/>
        </p:nvGraphicFramePr>
        <p:xfrm>
          <a:off x="395280" y="1773360"/>
          <a:ext cx="845820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73360"/>
                    <a:ext cx="84582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Rectangle 3"/>
          <p:cNvSpPr/>
          <p:nvPr/>
        </p:nvSpPr>
        <p:spPr>
          <a:xfrm>
            <a:off x="468360" y="2924280"/>
            <a:ext cx="8064360" cy="3384360"/>
          </a:xfrm>
          <a:prstGeom prst="rect">
            <a:avLst/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AutoShape 4"/>
          <p:cNvSpPr/>
          <p:nvPr/>
        </p:nvSpPr>
        <p:spPr>
          <a:xfrm>
            <a:off x="539640" y="3933720"/>
            <a:ext cx="6191280" cy="180036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1048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9</a:t>
            </a:r>
            <a:r>
              <a:rPr b="0" lang="en-IE" sz="4400" spc="-1" strike="noStrike">
                <a:solidFill>
                  <a:srgbClr val="e3e3ff"/>
                </a:solidFill>
                <a:latin typeface="Arial"/>
                <a:ea typeface="Arial"/>
              </a:rPr>
              <a:t>. </a:t>
            </a: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Összefoglalá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4" name="Text Box 6"/>
          <p:cNvSpPr/>
          <p:nvPr/>
        </p:nvSpPr>
        <p:spPr>
          <a:xfrm>
            <a:off x="539640" y="1773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ásra képes rendszere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Rectangle 7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6" name="Text Box 8"/>
          <p:cNvSpPr/>
          <p:nvPr/>
        </p:nvSpPr>
        <p:spPr>
          <a:xfrm>
            <a:off x="3708360" y="2276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örnyez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7" name="AutoShape 9"/>
          <p:cNvSpPr/>
          <p:nvPr/>
        </p:nvSpPr>
        <p:spPr>
          <a:xfrm>
            <a:off x="2843280" y="3141720"/>
            <a:ext cx="136692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észlel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AutoShape 10"/>
          <p:cNvSpPr/>
          <p:nvPr/>
        </p:nvSpPr>
        <p:spPr>
          <a:xfrm>
            <a:off x="3132000" y="4437000"/>
            <a:ext cx="136692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döntés d/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9" name="Rectangle 11"/>
          <p:cNvSpPr/>
          <p:nvPr/>
        </p:nvSpPr>
        <p:spPr>
          <a:xfrm>
            <a:off x="684360" y="4437000"/>
            <a:ext cx="143964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lényeg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Rectangle 12"/>
          <p:cNvSpPr/>
          <p:nvPr/>
        </p:nvSpPr>
        <p:spPr>
          <a:xfrm>
            <a:off x="3995640" y="5084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téved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1" name="Line 13"/>
          <p:cNvSpPr/>
          <p:nvPr/>
        </p:nvSpPr>
        <p:spPr>
          <a:xfrm>
            <a:off x="3492360" y="2708280"/>
            <a:ext cx="0" cy="50472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2" name="Rectangle 14"/>
          <p:cNvSpPr/>
          <p:nvPr/>
        </p:nvSpPr>
        <p:spPr>
          <a:xfrm>
            <a:off x="1908000" y="5084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változ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Line 15"/>
          <p:cNvSpPr/>
          <p:nvPr/>
        </p:nvSpPr>
        <p:spPr>
          <a:xfrm flipV="1">
            <a:off x="1403280" y="3573000"/>
            <a:ext cx="1297080" cy="64764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4" name="Line 16"/>
          <p:cNvSpPr/>
          <p:nvPr/>
        </p:nvSpPr>
        <p:spPr>
          <a:xfrm>
            <a:off x="3492360" y="3645000"/>
            <a:ext cx="358920" cy="57600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Line 17"/>
          <p:cNvSpPr/>
          <p:nvPr/>
        </p:nvSpPr>
        <p:spPr>
          <a:xfrm flipH="1">
            <a:off x="2627280" y="4724280"/>
            <a:ext cx="432000" cy="289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6" name="Line 18"/>
          <p:cNvSpPr/>
          <p:nvPr/>
        </p:nvSpPr>
        <p:spPr>
          <a:xfrm>
            <a:off x="4572000" y="4724280"/>
            <a:ext cx="287280" cy="36036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Line 19"/>
          <p:cNvSpPr/>
          <p:nvPr/>
        </p:nvSpPr>
        <p:spPr>
          <a:xfrm flipH="1">
            <a:off x="2268000" y="4581360"/>
            <a:ext cx="721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8" name="AutoShape 20"/>
          <p:cNvSpPr/>
          <p:nvPr/>
        </p:nvSpPr>
        <p:spPr>
          <a:xfrm>
            <a:off x="6804000" y="4221000"/>
            <a:ext cx="1655640" cy="792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felejt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9" name="Line 21"/>
          <p:cNvSpPr/>
          <p:nvPr/>
        </p:nvSpPr>
        <p:spPr>
          <a:xfrm>
            <a:off x="6372360" y="4508640"/>
            <a:ext cx="433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0" name="Line 22"/>
          <p:cNvSpPr/>
          <p:nvPr/>
        </p:nvSpPr>
        <p:spPr>
          <a:xfrm flipH="1">
            <a:off x="6372000" y="4724280"/>
            <a:ext cx="43164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1" name="Text Box 23"/>
          <p:cNvSpPr/>
          <p:nvPr/>
        </p:nvSpPr>
        <p:spPr>
          <a:xfrm>
            <a:off x="5003640" y="537372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emlékez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2" name="Text Box 24"/>
          <p:cNvSpPr/>
          <p:nvPr/>
        </p:nvSpPr>
        <p:spPr>
          <a:xfrm>
            <a:off x="2771640" y="587700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negatív és pozitív visszacsatolású, instabil rendsz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3" name="AutoShape 25"/>
          <p:cNvSpPr/>
          <p:nvPr/>
        </p:nvSpPr>
        <p:spPr>
          <a:xfrm>
            <a:off x="4500720" y="3141720"/>
            <a:ext cx="136656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beavatkoz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4" name="Line 26"/>
          <p:cNvSpPr/>
          <p:nvPr/>
        </p:nvSpPr>
        <p:spPr>
          <a:xfrm flipV="1">
            <a:off x="4284720" y="3645000"/>
            <a:ext cx="647640" cy="57600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5" name="Line 27"/>
          <p:cNvSpPr/>
          <p:nvPr/>
        </p:nvSpPr>
        <p:spPr>
          <a:xfrm flipV="1">
            <a:off x="5076720" y="2708280"/>
            <a:ext cx="0" cy="5032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Informatikai rendszer architektúrájának kérdései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Rectangle 4"/>
          <p:cNvSpPr/>
          <p:nvPr/>
        </p:nvSpPr>
        <p:spPr>
          <a:xfrm>
            <a:off x="1908000" y="3860640"/>
            <a:ext cx="48960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Tanulásra képes rendszerek az IT architektúrába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0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Példa (IT architektúra)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1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Önök nem únják még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hol van még mit tanulni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(mit csinálunk rosszul?)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A közös tudás egyben közös kincs i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Önnek mi az elképzelése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 tanulásról?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2268360" y="4365720"/>
            <a:ext cx="489600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Köszönöm türelmüket és figyelmüket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55280" y="2997360"/>
            <a:ext cx="727884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</a:rPr>
              <a:t>V É G 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Szemléle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900000" y="2133720"/>
            <a:ext cx="693432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Szemlél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zemlélet: egy adott témához kapcsolódó felfogás vagy álláspo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Felfogás: gondolkodásmód, elképzel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Gondolkodásmód: mód, aholgyan gondolkodunk (spontán, érzelemmel, racionálisan,..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Gondolkodás: belső elfoglaltság, amikor megpróbálunk egy felismerést megfogalmazni,elképzelések, emlékek és fogalmak alapjá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2124000" y="5589000"/>
            <a:ext cx="446580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szemlélet alapja a hit, vagy a tud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468360" y="184464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Tanulókép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900000" y="21337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Mikor tanulóképes egy rendszer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3203640" y="3645000"/>
            <a:ext cx="2808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anuló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2124000" y="4653000"/>
            <a:ext cx="489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4500720" y="4292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Line 11"/>
          <p:cNvSpPr/>
          <p:nvPr/>
        </p:nvSpPr>
        <p:spPr>
          <a:xfrm>
            <a:off x="2124000" y="4653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Line 12"/>
          <p:cNvSpPr/>
          <p:nvPr/>
        </p:nvSpPr>
        <p:spPr>
          <a:xfrm>
            <a:off x="7020000" y="4653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AutoShape 13"/>
          <p:cNvSpPr/>
          <p:nvPr/>
        </p:nvSpPr>
        <p:spPr>
          <a:xfrm>
            <a:off x="1187280" y="5013360"/>
            <a:ext cx="194328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anítjá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AutoShape 14"/>
          <p:cNvSpPr/>
          <p:nvPr/>
        </p:nvSpPr>
        <p:spPr>
          <a:xfrm>
            <a:off x="5940360" y="5013360"/>
            <a:ext cx="194328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önálló dönt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611280" y="5804640"/>
            <a:ext cx="324000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egadják mit, hogya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5003640" y="5804640"/>
            <a:ext cx="324036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aját képesség javítás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Text Box 17"/>
          <p:cNvSpPr/>
          <p:nvPr/>
        </p:nvSpPr>
        <p:spPr>
          <a:xfrm>
            <a:off x="1835280" y="2923560"/>
            <a:ext cx="51847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Ha a változó körülményekhez jól tud igazod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AutoShape 18"/>
          <p:cNvSpPr/>
          <p:nvPr/>
        </p:nvSpPr>
        <p:spPr>
          <a:xfrm>
            <a:off x="7236000" y="4221000"/>
            <a:ext cx="720720" cy="648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I. Tanulásra képes rendszerekről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971640" y="1844640"/>
            <a:ext cx="708660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1 Vezérlés és szabályoz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2 Visszacsatoláso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3 Analízi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4 Tanulóképes rendszerek tulajdonsága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5 Matematik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6 Szemléletbeli problémá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7 Ami kimarad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8 Technikai rendszere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9 Összefoglal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Vezérlés és szabályozá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971640" y="1844640"/>
            <a:ext cx="720072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Kibernetika: interdiszciplináris kutatási irán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1944, matematika, biológia, szabályozás, társadalo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Norbert Wiener, Claude Shann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Legfontosabb eredményei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vezérlés- és szabályozáselmél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visszacsatoláso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információelmélet (jel-elmélet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állapottér (fázisdiagramm) vizsgála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7T10:09:43Z</dcterms:created>
  <dc:creator>www.xplanet.hu</dc:creator>
  <dc:description/>
  <dc:language>en-US</dc:language>
  <cp:lastModifiedBy>Gyorgy Varga</cp:lastModifiedBy>
  <dcterms:modified xsi:type="dcterms:W3CDTF">2013-01-04T19:50:30Z</dcterms:modified>
  <cp:revision>1590</cp:revision>
  <dc:subject/>
  <dc:title>J2EE-001-VargaGy</dc:title>
</cp:coreProperties>
</file>