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7D21-21DE-4A53-969B-0EF326EE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CAA7-1B1A-4399-A6D6-8EDD9B820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E0C2-DB8D-4E45-B9D6-412C2B3AB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32B6-9AD5-4F69-B6D9-687FC884A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93C8-8B0F-4EAD-AF27-D79F8702D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5F99-BB54-4C16-BFEF-578E9ED8E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59FA-4CF6-4E58-A2EB-C99F6ED56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D9B3-7C90-42DD-A837-079498A37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B0D4-3AE8-4533-96B0-AC9EE875F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022C-986F-4FC9-AAAE-E475C4492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761B-F25B-4EBA-AFAA-5878AD75C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F098-4229-427D-AA95-9CD30EDC4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A092-77EC-4831-9F23-B33C63D9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0015-08EB-4C1E-922B-05A9A1D6F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4DC4-596C-42B1-BD70-172D590B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7D0C-7921-49CB-AA87-701976355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3FED-5211-4641-8D51-34BA46683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9539-8CE8-4427-BBC9-27F2C1498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745D-233E-4E00-B2A8-AFBFB6CDA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E871-BB51-47A7-A363-96136C23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7ADD-D97B-409F-A59D-7A4209F5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BD5-09F0-4C44-878E-D74F45ECE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6653-1052-4994-A104-E95E6827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B0C2-F3E9-4A27-8348-EF837FA31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7332-0732-474E-9621-2AD50C0B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F246-FCE2-4520-889B-EE5DC6927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C736-2CF0-498A-AB3E-88E911A57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0410-48F8-4398-AF8A-C8AF3181D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75B2-3E2B-483C-9CE2-4E94872FC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A112-0B02-4926-8DDB-497892CB0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A213-1D59-410E-A685-F23667DA4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2DC5-8898-4838-B84D-03230F780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1BB6-17DB-4DD0-B5D0-3E8862BB5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7F3C-A852-442A-9FDA-D99D7A6A8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62AD-72C5-457A-8BD1-1A32DBBA1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8F7-2C8B-4746-A711-50F15BE94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D0B0-70E8-45DD-8932-5FD67ACC2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97DA-6769-42A7-9CF3-718306F47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0577-9129-470F-AF30-927DAE7DD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25A0-28B3-4208-BB81-8854BE352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067-1B9B-450E-A358-DA74EB4DA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E7C6-EE00-44C0-85CD-661154782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1442-4447-4536-AEE8-B840AA73C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BB18-2E89-4E03-BAE8-45C87FD5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6A37-BFC6-4213-98DA-2825C78D3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B709-C971-4D69-B66A-1787B58A9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9B77-08D9-489A-8879-96F2FAD9F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37A6-BF80-4DCF-8D07-B05CD5780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8F66-6F1B-4964-8960-D4D334B55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08A-EFE8-4533-8906-F7E2C3CBA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5FDC-A62D-411B-865B-12BDDD2C0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07DC-37D5-4269-A98F-ACA8767A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3A60-37B4-41B4-8DEC-0BF4BBCD2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C3A5-BEC2-443D-9A7D-A4034F5C4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29E0-52B4-47CA-A805-B41A95C2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D793-A04A-44EF-845B-BD76A536E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B9E4-9EBC-4933-9E8F-DCC101D59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3167-D9C5-4C2B-B1A8-26270B8AE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1B8F-1B1D-4BF5-B5C9-049270BB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648D-6A86-4095-8104-AE1E28C55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F7AB-7651-46C6-B8D6-42CAD349B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3C55-BE02-42BF-BD0E-980F507A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42BB-C4AB-4475-8032-A0EB89169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03B3-8690-41CB-9D1A-427438F5E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1818-ED6A-4B5E-B7AF-E1A16CE10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E49E-8423-4119-ACB3-243CAED4E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A3B7-24AE-45DF-98B7-EFED7035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B5AB-C947-407F-AF2A-94652207C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BA4-944D-4EF5-9542-12BBE23D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A8C-1836-447D-8A73-D50D8C66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D4E-BAA2-41EE-AD62-04727555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FBE-5D51-48DD-AEEC-D80A90F8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3127-8A1D-4CB5-A75A-CE5845A2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18BE2-876A-4656-851F-9B404BBE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72202-7ABC-4BBC-A62B-F6D09BB5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F3347-8B27-49B2-87C5-537F92C7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63142-CA0E-4319-9BD2-580C5B9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A674C-5B63-4E73-98CF-3435FCBE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654A1-06E7-4207-95A4-9ACE371B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7F4-3D50-47E8-AC31-C2EA0205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5587C-DF41-4DC4-B8B2-3CC9253C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8F3A3-72BC-47F6-A4A4-EF4309E7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BEF0D-D6C3-41AC-A498-CE29AAC8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3C5C1-E929-4406-A5A6-C500332B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A0F8E-A717-4543-AB08-6D4B48D4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B9D-C782-4FB8-93C4-B48EE0A2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763-FFB6-4CE5-876D-6A16345A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C88-D327-4A39-B312-27D9F87A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2B5-0CBF-4FCC-B16E-E285FA93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744-A6AE-4034-AFCC-AC072162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847-7448-441C-B142-639D9B81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C08-401A-4FE9-A82D-DC068EAC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41AA-A1AC-4ACA-9D15-075D8BCAA7C6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64BD-6EAF-4C1B-BC8E-34B236D83FE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 system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539640" y="3645000"/>
            <a:ext cx="7848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First published: 2010-02-2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About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Controlling (cybernetic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Features of 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c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Problems with the general known vie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hat we are miss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cal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ybernetics: interdisciplinary resear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cs, biolology, technical control, socie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st important result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of contr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 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 say, what you have to d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comparing „is” and „should b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53964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li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finer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asur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val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ru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3348000" y="4581360"/>
            <a:ext cx="100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hou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Get a mod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giving a simpler view of realitiy – but proper for out go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 flipH="1">
            <a:off x="2773080" y="3933720"/>
            <a:ext cx="165420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signal, superposition, test pattern, test ser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eep constant 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is known, there is no changing parameter in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ome paramters of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are known, at least one parameter of the controlled system can be changed by the 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-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daptiv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s’s model are known –  features of the controlled systems may change, this change will be recognised and given to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only the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are unable to change the inputs, we can change the controlled system on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900000" y="5516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town water supply, aircr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hy is so, that no robot pilot will be used by airliners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50920" y="115920"/>
            <a:ext cx="838188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0066"/>
                </a:solidFill>
                <a:latin typeface="Times New Roman"/>
              </a:rPr>
              <a:t>EXTRACTIO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cc00"/>
                </a:solidFill>
                <a:latin typeface="Times New Roman"/>
              </a:rPr>
              <a:t>EXTRACTION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4360" y="2565360"/>
            <a:ext cx="7696080" cy="15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Times New Roman"/>
              </a:rPr>
              <a:t>from the lectu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,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wo types of feedbac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 and posi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: the internal controls in all continuously working systems is based on nega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: a very little change makes a relativ hudge change in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1547640" y="5445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veryday thinking: association with destru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- 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cessity of positiv feedbac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out control: atomic bom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 control: nuclear power plant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y for u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y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ood clot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140360" y="3860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ciduous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instabl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any controlled loop, where there are positiv and negativ feedbacks, the probability of instability is always greather than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116000" y="2924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y: he possibility, that a system may not be controlled anymore; or it comes into a state, which is not acceptable for us and there is no way to get ist back into a proper s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potential for osc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xample: foxes and rabbits in a clos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 sp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 space technic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show the parameters of the system in an abtract space, where one single point decribes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900000" y="19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century: way to get knowledge about very compley systemes: get apart, scrutinize these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971640" y="328464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biology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we get no resu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re are so calles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 popertie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se cannot be explained by the properties of the consisting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971640" y="544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learning „is the capability of  the whole system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uch a system has more beginning stability points in the phase sp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 gets from one possible stable point into a next possible stable point in the space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side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, what is the re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ctioning unit more effici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ot 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 sun loving cell (by Dr. 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ere are living too much cells: less food, less sunshine.        Into which direction is our friend moveing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-mending in the biology: example bic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w grow the muscles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bility of self mendi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aking unit more effitient” is only possible with posi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258920" y="421236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here must be positiv feedback 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sitiv feedback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ystems with learning capabilites are – without exception –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Is a system capable of learn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0000" y="2133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How we decide, a system is capable of learn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here are positiv and negativ feedbacks in each systems with learning capabilities –  so they are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n this process: there is a no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arning is: self-mending on nondeterministic wa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Object 2"/>
          <p:cNvGraphicFramePr/>
          <p:nvPr/>
        </p:nvGraphicFramePr>
        <p:xfrm>
          <a:off x="684360" y="1773360"/>
          <a:ext cx="7848360" cy="47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84836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 - summar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826920" y="1844640"/>
            <a:ext cx="746784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ach learning system is instable (in pahse sp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pable of making u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ts from a near stable point into another near stable point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er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s, what is the rec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tioning unit more efficti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The process of learning is not deterministic and cannot be reproduc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on linear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ct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11280" y="141300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 everybody likes it, but it is needed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cs of nonlinear equations (chaos theory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nlinear system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nnot be described with linear euqations: example: turbulent motions in g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24000" y="378864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54764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Please follow next li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4360" y="1844640"/>
            <a:ext cx="799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e teleph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oice-, picture- and vidoe recor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Question-Answer: only if one senc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o knows the answer, should wait ½ a min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6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o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bout systems with learning capabil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lation: learning systems and IT archit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xamples (IT archit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ere we may learn (what are we doing wrong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9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8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epülőtér, két kijár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116000" y="4651920"/>
            <a:ext cx="6912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alós életben a döntések egy része nem előre meghatározot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hozzájárul ahhoz, hogy tudunk tanulni (alkalmazkodni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u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org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Lot of old reactions is unnesessary in the new situ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hat won’t be needed: should be forgo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mething to forget: may be consio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stinction between important and 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not important – forgetting - perce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P A R 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539640" y="1773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564000" y="22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w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ecision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ista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obliv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Text Box 24"/>
          <p:cNvSpPr/>
          <p:nvPr/>
        </p:nvSpPr>
        <p:spPr>
          <a:xfrm>
            <a:off x="1979640" y="5877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stabile system with a lot of negative and positive loop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END OF  PAR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ctu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is is a real technical iss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Examples (IT architecture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Is this not bor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we can do it better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hat is wrong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Common knowledge is common treas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is your view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ank for your attention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systems with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hat is your view about learn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apable of learn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hat is the criterion to be able to lear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kill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wn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hat and how: will be giv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788000" y="5804640"/>
            <a:ext cx="3456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king own capability bett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5:16Z</dcterms:modified>
  <cp:revision>1598</cp:revision>
  <dc:subject/>
  <dc:title>J2EE-001-VargaGy</dc:title>
</cp:coreProperties>
</file>