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3.jpeg" ContentType="image/jpeg"/>
  <Override PartName="/ppt/media/image12.gif" ContentType="image/gif"/>
  <Override PartName="/ppt/media/image3.jpeg" ContentType="image/jpeg"/>
  <Override PartName="/ppt/media/image10.gif" ContentType="image/gif"/>
  <Override PartName="/ppt/media/image9.png" ContentType="image/png"/>
  <Override PartName="/ppt/media/image8.png" ContentType="image/png"/>
  <Override PartName="/ppt/media/image14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5.jpeg" ContentType="image/jpeg"/>
  <Override PartName="/ppt/media/image11.gif" ContentType="image/gif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6BA7-73C0-4C6D-A3F9-13C172B39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AE00-B7FB-429D-A461-638318C1C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0CDF-E860-4742-AD05-F1118E583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2F52-86D3-4ADC-B02C-719B71497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31BA-C1AF-461A-A5D2-1633CFE29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C22E-F900-4668-9550-91C2F8FE4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3E56-A9E7-49DC-922D-629ABB565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F056-594C-4030-95C3-A34FED42F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D895-14B0-4FAF-80AB-CC8141B36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A914-836C-4E0C-8A39-D43F12664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6DA1-1202-46E1-A69D-3D71C1D72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BFBE-5521-4C0D-B997-0A78F0CE3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1128-1990-40A7-B12C-CA4C99E70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43CC-9C44-4FF3-B6B7-6A6B93A24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98DD-75A8-403F-A880-6CE29BB51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5777-170B-497F-A26F-9C30F95DC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0644-8D58-43E0-98DA-660BE7CF6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844A-0373-4B3C-BBAF-257A7933E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79E5-46B4-4BE2-82C4-6907D61A7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1971-704C-4556-9388-488A167E8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853F-FC47-4979-ABBA-398B05137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631C-0181-4CE8-A096-E5CF7158A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8984-7E80-49D3-B500-23B248FDE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6A75-4A9C-44D1-B26A-296E593AE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1C21-FC77-4A9A-9A40-A6E41E527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BC39-3F76-4D76-BD54-9B2D96039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3F25-9AA5-4D2E-A0F5-DDED5DE29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78A7-AFBC-4BE6-A695-658043E41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A55E-4D14-4C8D-9183-FC36A5E50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07D8-C235-46D2-BB2E-69A9C0D64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59CB-0BCA-4194-959C-639F91546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70B2-EF87-4653-AAF5-7B07F9B94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0176-66B8-4B01-B59D-0888F697B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84DD-499D-4781-9FA2-812FB77EE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1353-97B1-46AF-8281-FB8326D5B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34EA-DB7E-494E-8465-004BF0D76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1739-BE8B-4ED6-A74B-15905626C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8601-F002-48D5-ACB6-A74397316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513B-3118-486B-BCBD-529EEC202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B92A-D14C-4504-9898-518743DB5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1EB8-0DD7-4222-9471-85AB6C09F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2109-3E38-408A-94FB-D201E2B82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93C3-C87A-41D3-9F71-CB7CD753E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BA75-B135-4C56-B5B3-C72BE6138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92DF-5645-4BF6-8B0B-7BF21B989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1336-B424-4B14-9741-FAE2C472A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4028-9E46-4B75-9E4A-EF6DA29B8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8AA5-0F00-4B7A-843C-030BB05C1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3285-FF2E-48FF-9751-EF9C1784E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5D09-3A88-4A9E-9659-C47A03C20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D275-BCC3-4807-930D-653347BA1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0D02-0D5D-4476-BE84-6F960D4F1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F58B-2FFC-45C6-89DF-C215BC240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919A-2890-4ADD-AE80-4996E0EFB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334C-3B82-42CA-86BD-3C3E861D0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AC37-E035-4CF5-B973-5B88A617C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84B5-7843-4061-AB7E-F4769D844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C9F9-12EF-4115-A797-0237DFEDF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7AA3-639A-492F-8BBB-E9F38A724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4CA9-48AC-4041-88BC-E0BEFDAD1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604C-8435-4560-85F2-87CB2596A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83FE-A13E-4DBE-BFDF-D6FDB48CA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1FF7-7605-4D23-964B-775CA416B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0034-F597-4445-84EE-90BB1C24D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8392-1A76-4858-B5F9-E43C56C65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956C-88FC-4CAD-9D0A-FC0DFD23E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8A17-A902-45CC-8ACD-FFA7A5745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FF0A-D936-4FD2-82AC-FC1A0246A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7229-5ABD-4AC1-A7D7-7C70ACFE3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9AF0-E40D-472E-B021-14147651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83F8-3F92-4B88-A7C0-35C3BDBF9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8608-1C3C-40B0-A598-2FC97189A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EDB5C2-06D5-4306-9CDC-3341FC565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8F659-CAD6-4AC7-858F-E2070131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750B0-CA54-4AF8-AB0B-553A09D2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C07B33-BDA4-4EF2-8037-DE609144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BCB5F-9CCD-4FAA-8F3B-278328E7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1F02A-F105-47BA-9495-468E7998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9480C-C0FC-4712-88E8-76F9B72A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23CD-5BBE-4B17-B460-B1A73789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273D3-37D1-4DC6-8584-BEB787A4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FED60-33AD-4798-9956-D2090A80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97FDB-1594-4861-BD66-9913C22F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CAE0B-C8C2-4258-85FD-A44AE66CE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05F46-8745-4829-9445-70AE42F04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C7EF-A668-4E39-AE62-9111A042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74D4-90FC-47F3-8257-D005F9F3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39F0-A841-4C0B-AFA0-23D3CA3D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45E0-57BF-4509-87B8-E400CEDC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BBF8-224F-499D-A587-5A122F4B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3BBB-2C7F-49D0-9172-1189EB7C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3E2F-E0A2-4A5B-B3A0-9B3056E8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C3E0-D41B-49C7-B157-E5EA5F14A827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4E38-6349-451E-891C-06CED0EE244C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bout learning systems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Rectangle 38"/>
          <p:cNvSpPr/>
          <p:nvPr/>
        </p:nvSpPr>
        <p:spPr>
          <a:xfrm>
            <a:off x="539640" y="3645000"/>
            <a:ext cx="7848720" cy="100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Times New Roman"/>
              </a:rPr>
              <a:t>Copyright (c) Dr. György Varga, 2010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Times New Roman"/>
              </a:rPr>
              <a:t>First published: 2010-02-28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I. About systems with learning capabiliti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971640" y="1844640"/>
            <a:ext cx="708660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1 Controlling (cybernetic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2 Feedback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3 Analysi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4 Features of systems with learning capabiliti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5 Mathematic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6 Problems with the general known view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7 What we are miss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8 Technical System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9 Summar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Controll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971640" y="1844640"/>
            <a:ext cx="720072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Cybernetics: interdisciplinary resear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1944, mathematics, biolology, technical control, societ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Norbert Wiener, Claude Shann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ost important results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theorie of control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feedback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information theori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phase diagra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Controll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971640" y="1844640"/>
            <a:ext cx="708660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Control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i say, what you have to do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Loop-control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comparing „is” and „should be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AutoShape 7"/>
          <p:cNvSpPr/>
          <p:nvPr/>
        </p:nvSpPr>
        <p:spPr>
          <a:xfrm>
            <a:off x="1187280" y="2565360"/>
            <a:ext cx="1440000" cy="93492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o thi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3203640" y="2565360"/>
            <a:ext cx="1439640" cy="934920"/>
          </a:xfrm>
          <a:custGeom>
            <a:avLst/>
            <a:gdLst>
              <a:gd name="textAreaLeft" fmla="*/ 180000 w 1439640"/>
              <a:gd name="textAreaRight" fmla="*/ 1260000 w 143964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o thi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AutoShape 10"/>
          <p:cNvSpPr/>
          <p:nvPr/>
        </p:nvSpPr>
        <p:spPr>
          <a:xfrm>
            <a:off x="5076720" y="2565360"/>
            <a:ext cx="1440000" cy="93492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o thi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AutoShape 12"/>
          <p:cNvSpPr/>
          <p:nvPr/>
        </p:nvSpPr>
        <p:spPr>
          <a:xfrm>
            <a:off x="3492360" y="44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troll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Line 13"/>
          <p:cNvSpPr/>
          <p:nvPr/>
        </p:nvSpPr>
        <p:spPr>
          <a:xfrm>
            <a:off x="1835280" y="47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Line 14"/>
          <p:cNvSpPr/>
          <p:nvPr/>
        </p:nvSpPr>
        <p:spPr>
          <a:xfrm>
            <a:off x="5435640" y="47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Line 15"/>
          <p:cNvSpPr/>
          <p:nvPr/>
        </p:nvSpPr>
        <p:spPr>
          <a:xfrm>
            <a:off x="6084720" y="479736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AutoShape 16"/>
          <p:cNvSpPr/>
          <p:nvPr/>
        </p:nvSpPr>
        <p:spPr>
          <a:xfrm>
            <a:off x="4356000" y="5445000"/>
            <a:ext cx="1152720" cy="576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Line 19"/>
          <p:cNvSpPr/>
          <p:nvPr/>
        </p:nvSpPr>
        <p:spPr>
          <a:xfrm flipH="1">
            <a:off x="5435280" y="573408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Line 20"/>
          <p:cNvSpPr/>
          <p:nvPr/>
        </p:nvSpPr>
        <p:spPr>
          <a:xfrm flipH="1">
            <a:off x="2700000" y="573408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Line 21"/>
          <p:cNvSpPr/>
          <p:nvPr/>
        </p:nvSpPr>
        <p:spPr>
          <a:xfrm flipV="1">
            <a:off x="2700360" y="486864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Oval 22"/>
          <p:cNvSpPr/>
          <p:nvPr/>
        </p:nvSpPr>
        <p:spPr>
          <a:xfrm>
            <a:off x="2627280" y="4724280"/>
            <a:ext cx="144360" cy="1447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Line 23"/>
          <p:cNvSpPr/>
          <p:nvPr/>
        </p:nvSpPr>
        <p:spPr>
          <a:xfrm>
            <a:off x="2411280" y="45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Line 24"/>
          <p:cNvSpPr/>
          <p:nvPr/>
        </p:nvSpPr>
        <p:spPr>
          <a:xfrm flipV="1">
            <a:off x="2484360" y="450828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Line 25"/>
          <p:cNvSpPr/>
          <p:nvPr/>
        </p:nvSpPr>
        <p:spPr>
          <a:xfrm flipH="1">
            <a:off x="2842920" y="49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Object 2"/>
          <p:cNvGraphicFramePr/>
          <p:nvPr/>
        </p:nvGraphicFramePr>
        <p:xfrm>
          <a:off x="539640" y="155736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Controll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Loop-controlling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finer diagra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AutoShape 9"/>
          <p:cNvSpPr/>
          <p:nvPr/>
        </p:nvSpPr>
        <p:spPr>
          <a:xfrm>
            <a:off x="3635280" y="306864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troll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Line 10"/>
          <p:cNvSpPr/>
          <p:nvPr/>
        </p:nvSpPr>
        <p:spPr>
          <a:xfrm flipV="1">
            <a:off x="4356000" y="44370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Line 11"/>
          <p:cNvSpPr/>
          <p:nvPr/>
        </p:nvSpPr>
        <p:spPr>
          <a:xfrm>
            <a:off x="5651640" y="335772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Line 12"/>
          <p:cNvSpPr/>
          <p:nvPr/>
        </p:nvSpPr>
        <p:spPr>
          <a:xfrm>
            <a:off x="6804000" y="335772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AutoShape 13"/>
          <p:cNvSpPr/>
          <p:nvPr/>
        </p:nvSpPr>
        <p:spPr>
          <a:xfrm>
            <a:off x="2340000" y="400536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Line 14"/>
          <p:cNvSpPr/>
          <p:nvPr/>
        </p:nvSpPr>
        <p:spPr>
          <a:xfrm flipH="1">
            <a:off x="6084720" y="4292640"/>
            <a:ext cx="7192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Oval 17"/>
          <p:cNvSpPr/>
          <p:nvPr/>
        </p:nvSpPr>
        <p:spPr>
          <a:xfrm>
            <a:off x="4284720" y="429264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4643280" y="450864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 flipV="1">
            <a:off x="4716360" y="443664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Line 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AutoShape 21"/>
          <p:cNvSpPr/>
          <p:nvPr/>
        </p:nvSpPr>
        <p:spPr>
          <a:xfrm>
            <a:off x="4932360" y="4005360"/>
            <a:ext cx="1152360" cy="5760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easur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6012000" y="2708280"/>
            <a:ext cx="187308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ontrolled valu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Line 23"/>
          <p:cNvSpPr/>
          <p:nvPr/>
        </p:nvSpPr>
        <p:spPr>
          <a:xfrm>
            <a:off x="4572000" y="2565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Line 24"/>
          <p:cNvSpPr/>
          <p:nvPr/>
        </p:nvSpPr>
        <p:spPr>
          <a:xfrm flipH="1">
            <a:off x="4427640" y="436572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4572000" y="2565360"/>
            <a:ext cx="86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rub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Text Box 26"/>
          <p:cNvSpPr/>
          <p:nvPr/>
        </p:nvSpPr>
        <p:spPr>
          <a:xfrm>
            <a:off x="4284720" y="4005360"/>
            <a:ext cx="86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Line 27"/>
          <p:cNvSpPr/>
          <p:nvPr/>
        </p:nvSpPr>
        <p:spPr>
          <a:xfrm flipH="1">
            <a:off x="3492000" y="436572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Line 28"/>
          <p:cNvSpPr/>
          <p:nvPr/>
        </p:nvSpPr>
        <p:spPr>
          <a:xfrm>
            <a:off x="1908000" y="3357720"/>
            <a:ext cx="172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Line 30"/>
          <p:cNvSpPr/>
          <p:nvPr/>
        </p:nvSpPr>
        <p:spPr>
          <a:xfrm>
            <a:off x="2627280" y="494172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" name="Line 31"/>
          <p:cNvSpPr/>
          <p:nvPr/>
        </p:nvSpPr>
        <p:spPr>
          <a:xfrm>
            <a:off x="1908000" y="3357720"/>
            <a:ext cx="0" cy="86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Text Box 32"/>
          <p:cNvSpPr/>
          <p:nvPr/>
        </p:nvSpPr>
        <p:spPr>
          <a:xfrm>
            <a:off x="3348000" y="4581360"/>
            <a:ext cx="10098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houl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Line 33"/>
          <p:cNvSpPr/>
          <p:nvPr/>
        </p:nvSpPr>
        <p:spPr>
          <a:xfrm flipV="1">
            <a:off x="2627280" y="4581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Line 34"/>
          <p:cNvSpPr/>
          <p:nvPr/>
        </p:nvSpPr>
        <p:spPr>
          <a:xfrm>
            <a:off x="1908000" y="422100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Text Box 35"/>
          <p:cNvSpPr/>
          <p:nvPr/>
        </p:nvSpPr>
        <p:spPr>
          <a:xfrm>
            <a:off x="3419640" y="4005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ff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Get a mode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odel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giving a simpler view of realitiy – but proper for out goa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troll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4429080" y="3645000"/>
            <a:ext cx="115272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Line 11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Line 12"/>
          <p:cNvSpPr/>
          <p:nvPr/>
        </p:nvSpPr>
        <p:spPr>
          <a:xfrm flipH="1">
            <a:off x="2773080" y="3933720"/>
            <a:ext cx="165420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Line 13"/>
          <p:cNvSpPr/>
          <p:nvPr/>
        </p:nvSpPr>
        <p:spPr>
          <a:xfrm flipV="1">
            <a:off x="2773440" y="306828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Oval 14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Line 15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Line 16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Line 17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Text Box 18"/>
          <p:cNvSpPr/>
          <p:nvPr/>
        </p:nvSpPr>
        <p:spPr>
          <a:xfrm>
            <a:off x="971640" y="479736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estsignal, superposition, test pattern, test seri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Controlling 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Controlling A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keep constant outpu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AutoShape 9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troll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Line 11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Line 12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AutoShape 13"/>
          <p:cNvSpPr/>
          <p:nvPr/>
        </p:nvSpPr>
        <p:spPr>
          <a:xfrm>
            <a:off x="4429080" y="3645000"/>
            <a:ext cx="115272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Line 14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Line 15"/>
          <p:cNvSpPr/>
          <p:nvPr/>
        </p:nvSpPr>
        <p:spPr>
          <a:xfrm flipH="1">
            <a:off x="2773080" y="393372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Line 16"/>
          <p:cNvSpPr/>
          <p:nvPr/>
        </p:nvSpPr>
        <p:spPr>
          <a:xfrm flipV="1">
            <a:off x="2773440" y="306828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Oval 17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Line 19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Line 20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Text Box 21"/>
          <p:cNvSpPr/>
          <p:nvPr/>
        </p:nvSpPr>
        <p:spPr>
          <a:xfrm>
            <a:off x="971640" y="4797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ontrolled system and it’s model is known, there is no changing parameter in the mod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Controlling B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971640" y="18446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Controlling B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some paramters of controlled system can be chang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troll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AutoShape 10"/>
          <p:cNvSpPr/>
          <p:nvPr/>
        </p:nvSpPr>
        <p:spPr>
          <a:xfrm>
            <a:off x="4429080" y="3645000"/>
            <a:ext cx="115272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Line 11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Line 12"/>
          <p:cNvSpPr/>
          <p:nvPr/>
        </p:nvSpPr>
        <p:spPr>
          <a:xfrm flipH="1">
            <a:off x="2773080" y="393372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Line 13"/>
          <p:cNvSpPr/>
          <p:nvPr/>
        </p:nvSpPr>
        <p:spPr>
          <a:xfrm flipV="1">
            <a:off x="2773440" y="306828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Oval 14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Line 15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Line 16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Line 17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Text Box 18"/>
          <p:cNvSpPr/>
          <p:nvPr/>
        </p:nvSpPr>
        <p:spPr>
          <a:xfrm>
            <a:off x="971640" y="479736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ontrolled system and it’s model are known, at least one parameter of the controlled system can be changed by the 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Line 19"/>
          <p:cNvSpPr/>
          <p:nvPr/>
        </p:nvSpPr>
        <p:spPr>
          <a:xfrm flipV="1">
            <a:off x="4643280" y="3284280"/>
            <a:ext cx="0" cy="36036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2"/>
          <p:cNvGraphicFramePr/>
          <p:nvPr/>
        </p:nvGraphicFramePr>
        <p:xfrm>
          <a:off x="468360" y="155736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Controlling - C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Controlling adaptive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troll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AutoShape 10"/>
          <p:cNvSpPr/>
          <p:nvPr/>
        </p:nvSpPr>
        <p:spPr>
          <a:xfrm>
            <a:off x="4427640" y="364500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statu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Line 11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Line 12"/>
          <p:cNvSpPr/>
          <p:nvPr/>
        </p:nvSpPr>
        <p:spPr>
          <a:xfrm>
            <a:off x="5076720" y="4221000"/>
            <a:ext cx="0" cy="21600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Line 13"/>
          <p:cNvSpPr/>
          <p:nvPr/>
        </p:nvSpPr>
        <p:spPr>
          <a:xfrm flipV="1">
            <a:off x="2771640" y="3068280"/>
            <a:ext cx="1800" cy="115236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Oval 14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Line 15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Line 16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2" name="Line 17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Text Box 18"/>
          <p:cNvSpPr/>
          <p:nvPr/>
        </p:nvSpPr>
        <p:spPr>
          <a:xfrm>
            <a:off x="971640" y="479736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ontrolled system and is’s model are known –  features of the controlled systems may change, this change will be recognised and given to the mod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4" name="Line 19"/>
          <p:cNvSpPr/>
          <p:nvPr/>
        </p:nvSpPr>
        <p:spPr>
          <a:xfrm>
            <a:off x="3276720" y="2997360"/>
            <a:ext cx="0" cy="100800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Line 21"/>
          <p:cNvSpPr/>
          <p:nvPr/>
        </p:nvSpPr>
        <p:spPr>
          <a:xfrm>
            <a:off x="3276720" y="4005360"/>
            <a:ext cx="115092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AutoShape 22"/>
          <p:cNvSpPr/>
          <p:nvPr/>
        </p:nvSpPr>
        <p:spPr>
          <a:xfrm>
            <a:off x="2268360" y="4149720"/>
            <a:ext cx="1152720" cy="576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Line 23"/>
          <p:cNvSpPr/>
          <p:nvPr/>
        </p:nvSpPr>
        <p:spPr>
          <a:xfrm flipH="1">
            <a:off x="3419280" y="4437000"/>
            <a:ext cx="1657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Controlling 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Controlling D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only the controlled system can be chang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troll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AutoShape 10"/>
          <p:cNvSpPr/>
          <p:nvPr/>
        </p:nvSpPr>
        <p:spPr>
          <a:xfrm>
            <a:off x="3924360" y="364500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Line 11"/>
          <p:cNvSpPr/>
          <p:nvPr/>
        </p:nvSpPr>
        <p:spPr>
          <a:xfrm flipH="1">
            <a:off x="5003640" y="3933720"/>
            <a:ext cx="115416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9" name="Line 13"/>
          <p:cNvSpPr/>
          <p:nvPr/>
        </p:nvSpPr>
        <p:spPr>
          <a:xfrm flipV="1">
            <a:off x="4643280" y="3284280"/>
            <a:ext cx="0" cy="43164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Text Box 18"/>
          <p:cNvSpPr/>
          <p:nvPr/>
        </p:nvSpPr>
        <p:spPr>
          <a:xfrm>
            <a:off x="971640" y="4797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e are unable to change the inputs, we can change the controlled system onl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Line 19"/>
          <p:cNvSpPr/>
          <p:nvPr/>
        </p:nvSpPr>
        <p:spPr>
          <a:xfrm>
            <a:off x="2050920" y="2997360"/>
            <a:ext cx="0" cy="93636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Line 21"/>
          <p:cNvSpPr/>
          <p:nvPr/>
        </p:nvSpPr>
        <p:spPr>
          <a:xfrm>
            <a:off x="2050920" y="3933720"/>
            <a:ext cx="180036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900000" y="5516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Example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town water supply, aircraf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Ques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Why is so, that no robot pilot will be used by airliners?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50920" y="115920"/>
            <a:ext cx="8381880" cy="27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0066"/>
                </a:solidFill>
                <a:latin typeface="Times New Roman"/>
              </a:rPr>
              <a:t>EXTRACTION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cc00"/>
                </a:solidFill>
                <a:latin typeface="Times New Roman"/>
              </a:rPr>
              <a:t>EXTRACTION</a:t>
            </a:r>
            <a:endParaRPr b="0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84360" y="2565360"/>
            <a:ext cx="7696080" cy="15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Times New Roman"/>
              </a:rPr>
              <a:t>from the lectur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About IT Systems with learning capabiliti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Object 2"/>
          <p:cNvGraphicFramePr/>
          <p:nvPr/>
        </p:nvGraphicFramePr>
        <p:xfrm>
          <a:off x="468360" y="1557360"/>
          <a:ext cx="7848720" cy="49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784872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Feedback – P, 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Two types of feedback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gativ and positiv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Text Box 18"/>
          <p:cNvSpPr/>
          <p:nvPr/>
        </p:nvSpPr>
        <p:spPr>
          <a:xfrm>
            <a:off x="971640" y="2565360"/>
            <a:ext cx="37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gativ: the internal controls in all continuously working systems is based on negativ feedbac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35" name="Picture 19" descr="nvisz"/>
          <p:cNvPicPr/>
          <p:nvPr/>
        </p:nvPicPr>
        <p:blipFill>
          <a:blip r:embed="rId3"/>
          <a:stretch/>
        </p:blipFill>
        <p:spPr>
          <a:xfrm>
            <a:off x="4788000" y="2637000"/>
            <a:ext cx="3022560" cy="109692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20"/>
          <p:cNvSpPr/>
          <p:nvPr/>
        </p:nvSpPr>
        <p:spPr>
          <a:xfrm>
            <a:off x="1116000" y="4292640"/>
            <a:ext cx="37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ositiv: a very little change makes a relativ hudge change in the whole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AutoShape 21"/>
          <p:cNvSpPr/>
          <p:nvPr/>
        </p:nvSpPr>
        <p:spPr>
          <a:xfrm>
            <a:off x="6012000" y="4365720"/>
            <a:ext cx="720720" cy="647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Text Box 27"/>
          <p:cNvSpPr/>
          <p:nvPr/>
        </p:nvSpPr>
        <p:spPr>
          <a:xfrm>
            <a:off x="1547640" y="544500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 everyday thinking: association with destruc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Feedback - P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ecessity of positiv feedback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4" name="Text Box 7"/>
          <p:cNvSpPr/>
          <p:nvPr/>
        </p:nvSpPr>
        <p:spPr>
          <a:xfrm>
            <a:off x="1116000" y="2924280"/>
            <a:ext cx="7201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ithout control: atomic bomb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ith control: nuclear power plant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energy for usa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1187280" y="3860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iology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6" name="Text Box 9"/>
          <p:cNvSpPr/>
          <p:nvPr/>
        </p:nvSpPr>
        <p:spPr>
          <a:xfrm>
            <a:off x="2340000" y="3860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lood clott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Text Box 10"/>
          <p:cNvSpPr/>
          <p:nvPr/>
        </p:nvSpPr>
        <p:spPr>
          <a:xfrm>
            <a:off x="4140360" y="3860640"/>
            <a:ext cx="19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ciduous (apoptose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48" name="Picture 11" descr="gomba"/>
          <p:cNvPicPr/>
          <p:nvPr/>
        </p:nvPicPr>
        <p:blipFill>
          <a:blip r:embed="rId3"/>
          <a:stretch/>
        </p:blipFill>
        <p:spPr>
          <a:xfrm>
            <a:off x="6156360" y="1844640"/>
            <a:ext cx="1944720" cy="14670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2" descr="apeiler"/>
          <p:cNvPicPr/>
          <p:nvPr/>
        </p:nvPicPr>
        <p:blipFill>
          <a:blip r:embed="rId4"/>
          <a:stretch/>
        </p:blipFill>
        <p:spPr>
          <a:xfrm>
            <a:off x="6156360" y="3789360"/>
            <a:ext cx="1944720" cy="12970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3" descr="animalcell"/>
          <p:cNvPicPr/>
          <p:nvPr/>
        </p:nvPicPr>
        <p:blipFill>
          <a:blip r:embed="rId5"/>
          <a:stretch/>
        </p:blipFill>
        <p:spPr>
          <a:xfrm>
            <a:off x="2700360" y="4437000"/>
            <a:ext cx="2401920" cy="20541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3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3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Feedback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ositiv and negativ together: instablilit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1116000" y="450864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 any controlled loop, where there are positiv and negativ feedbacks, the probability of instability is always greather than nul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1116000" y="292428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stability: he possibility, that a system may not be controlled anymore; or it comes into a state, which is not acceptable for us and there is no way to get ist back into a proper stat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Feedback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Text Box 5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ositiv and negativ together: potential for oscilla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1042920" y="249228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xample: foxes and rabbits in a clos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64" name="Picture 10" descr="foxrabbit"/>
          <p:cNvPicPr/>
          <p:nvPr/>
        </p:nvPicPr>
        <p:blipFill>
          <a:blip r:embed="rId3"/>
          <a:stretch/>
        </p:blipFill>
        <p:spPr>
          <a:xfrm>
            <a:off x="2411280" y="3068640"/>
            <a:ext cx="3961080" cy="30211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Feedback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67" name="Object 8"/>
          <p:cNvGraphicFramePr/>
          <p:nvPr/>
        </p:nvGraphicFramePr>
        <p:xfrm>
          <a:off x="324000" y="1341360"/>
          <a:ext cx="8208720" cy="444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41360"/>
                    <a:ext cx="820872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Phase spa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971640" y="184464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hase space technics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e show the parameters of the system in an abtract space, where one single point decribes the whole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74" name="Picture 7" descr="lorenz"/>
          <p:cNvPicPr/>
          <p:nvPr/>
        </p:nvPicPr>
        <p:blipFill>
          <a:blip r:embed="rId3"/>
          <a:stretch/>
        </p:blipFill>
        <p:spPr>
          <a:xfrm>
            <a:off x="3059280" y="2997360"/>
            <a:ext cx="3314520" cy="28573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Object 2"/>
          <p:cNvGraphicFramePr/>
          <p:nvPr/>
        </p:nvGraphicFramePr>
        <p:xfrm>
          <a:off x="684360" y="1557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7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3. Analy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900000" y="19162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XVI-XVII. century: way to get knowledge about very compley systemes: get apart, scrutinize these part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971640" y="3284640"/>
            <a:ext cx="72007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In biology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we get no resul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here are so calles „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emergent poperties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”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hese cannot be explained by the properties of the consisting part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971640" y="544500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ibniz: learning „is the capability of  the whole system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2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Attributes of systems with learning capabiliti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900000" y="2205000"/>
            <a:ext cx="746784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ystems with learning capabiliti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uch a system has more beginning stability points in the phase spac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s gets from one possible stable point into a next possible stable point in the space via learn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ondition for learning: self knowledge and a model about the outside worl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f knowledge here: how reacts the system, what is the retroactivity of the reaction back to the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f mend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hat is out of order, must be mend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for better reaction: making functioning unit more efficie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Attributes of systems with learning capabiliti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Text Box 8"/>
          <p:cNvSpPr/>
          <p:nvPr/>
        </p:nvSpPr>
        <p:spPr>
          <a:xfrm>
            <a:off x="1187280" y="5299920"/>
            <a:ext cx="6337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ot deterministic decis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92" name="Picture 9" descr="untitled2"/>
          <p:cNvPicPr/>
          <p:nvPr/>
        </p:nvPicPr>
        <p:blipFill>
          <a:blip r:embed="rId3"/>
          <a:stretch/>
        </p:blipFill>
        <p:spPr>
          <a:xfrm>
            <a:off x="3059280" y="3500280"/>
            <a:ext cx="2485800" cy="1494000"/>
          </a:xfrm>
          <a:prstGeom prst="rect">
            <a:avLst/>
          </a:prstGeom>
          <a:ln w="0">
            <a:noFill/>
          </a:ln>
        </p:spPr>
      </p:pic>
      <p:sp>
        <p:nvSpPr>
          <p:cNvPr id="393" name="AutoShape 16"/>
          <p:cNvSpPr/>
          <p:nvPr/>
        </p:nvSpPr>
        <p:spPr>
          <a:xfrm flipV="1">
            <a:off x="2268360" y="4075920"/>
            <a:ext cx="432000" cy="792360"/>
          </a:xfrm>
          <a:prstGeom prst="upArrow">
            <a:avLst>
              <a:gd name="adj1" fmla="val 50000"/>
              <a:gd name="adj2" fmla="val 45854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less foo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4" name="AutoShape 18"/>
          <p:cNvSpPr/>
          <p:nvPr/>
        </p:nvSpPr>
        <p:spPr>
          <a:xfrm flipV="1">
            <a:off x="5940360" y="4075920"/>
            <a:ext cx="432000" cy="792360"/>
          </a:xfrm>
          <a:prstGeom prst="upArrow">
            <a:avLst>
              <a:gd name="adj1" fmla="val 50000"/>
              <a:gd name="adj2" fmla="val 45854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less ligh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5" name="AutoShape 19"/>
          <p:cNvSpPr/>
          <p:nvPr/>
        </p:nvSpPr>
        <p:spPr>
          <a:xfrm flipH="1">
            <a:off x="1258920" y="3573360"/>
            <a:ext cx="1728720" cy="576360"/>
          </a:xfrm>
          <a:prstGeom prst="rightArrow">
            <a:avLst>
              <a:gd name="adj1" fmla="val 50000"/>
              <a:gd name="adj2" fmla="val 74984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ore ligh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6" name="AutoShape 20"/>
          <p:cNvSpPr/>
          <p:nvPr/>
        </p:nvSpPr>
        <p:spPr>
          <a:xfrm>
            <a:off x="5724360" y="3573360"/>
            <a:ext cx="1872000" cy="576360"/>
          </a:xfrm>
          <a:prstGeom prst="rightArrow">
            <a:avLst>
              <a:gd name="adj1" fmla="val 50000"/>
              <a:gd name="adj2" fmla="val 81199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ore foo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Text Box 21"/>
          <p:cNvSpPr/>
          <p:nvPr/>
        </p:nvSpPr>
        <p:spPr>
          <a:xfrm>
            <a:off x="900000" y="2205000"/>
            <a:ext cx="746784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he sun loving cell (by Dr. Tibor Gánt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Here are living too much cells: less food, less sunshine.        Into which direction is our friend moveing?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3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Attributes of systems with learning capabiliti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900000" y="2205000"/>
            <a:ext cx="74678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 learning system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f-mending in the biology: example bicep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1187280" y="5157000"/>
            <a:ext cx="6337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How grow the muscles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539640" y="3645000"/>
            <a:ext cx="7848720" cy="5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Times New Roman"/>
              </a:rPr>
              <a:t>Copyright (c) Dr. György Varga, 2010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539640" y="1413000"/>
            <a:ext cx="7696440" cy="16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bout IT systems with learning capabilities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900000" y="4653000"/>
            <a:ext cx="769644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e3e3ff"/>
                </a:solidFill>
                <a:latin typeface="Tahoma"/>
              </a:rPr>
              <a:t>www.xplanet.hu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4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Attributes of systems with learning capabiliti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900000" y="2205000"/>
            <a:ext cx="746784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 learing system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bility of self mending: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„making unit more effitient” is only possible with positiv feedbac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1258920" y="4212360"/>
            <a:ext cx="6408720" cy="368280"/>
          </a:xfrm>
          <a:prstGeom prst="rect">
            <a:avLst/>
          </a:prstGeom>
          <a:solidFill>
            <a:srgbClr val="0000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here must be positiv feedback in learning system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0" name="Text Box 8"/>
          <p:cNvSpPr/>
          <p:nvPr/>
        </p:nvSpPr>
        <p:spPr>
          <a:xfrm>
            <a:off x="1258920" y="4941000"/>
            <a:ext cx="6408720" cy="368280"/>
          </a:xfrm>
          <a:prstGeom prst="rect">
            <a:avLst/>
          </a:prstGeom>
          <a:solidFill>
            <a:srgbClr val="0000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Positiv feedback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instabilit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Text Box 9"/>
          <p:cNvSpPr/>
          <p:nvPr/>
        </p:nvSpPr>
        <p:spPr>
          <a:xfrm>
            <a:off x="1258920" y="5598720"/>
            <a:ext cx="633744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ystems with learning capabilites are – without exception – instab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Is a system capable of learning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900000" y="213372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How we decide, a system is capable of learning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1116000" y="429264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There are positiv and negativ feedbacks in each systems with learning capabilities –  so they are instab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Text Box 7"/>
          <p:cNvSpPr/>
          <p:nvPr/>
        </p:nvSpPr>
        <p:spPr>
          <a:xfrm>
            <a:off x="1116000" y="35002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In this process: there is a nondeterministic decis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1116000" y="306864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Can good adapt to changing environme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1116000" y="5373000"/>
            <a:ext cx="633744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Learning is: self-mending on nondeterministic wa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1" name="Object 2"/>
          <p:cNvGraphicFramePr/>
          <p:nvPr/>
        </p:nvGraphicFramePr>
        <p:xfrm>
          <a:off x="684360" y="1773360"/>
          <a:ext cx="7848360" cy="47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73360"/>
                    <a:ext cx="7848360" cy="47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Attributes of systems with learning capabilities - summary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826920" y="1844640"/>
            <a:ext cx="7467840" cy="47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ystem with learning capabiliti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ach learning system is instable (in pahse space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apable of making undeterministic decis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gets from a near stable point into another near stable point via learn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ondition for learning: self knowledge and a model about the outer worl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f knowledge here: how reacts the systems, what is the rectroactivity of the reaction back to the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f mend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hat is out of order, must be mend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for better reaction: making funtioning unit more effictio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The process of learning is not deterministic and cannot be reproduc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hematic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1 Non linear system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2 Fractal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Object 2"/>
          <p:cNvGraphicFramePr/>
          <p:nvPr/>
        </p:nvGraphicFramePr>
        <p:xfrm>
          <a:off x="611280" y="141300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1300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hematic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ot everybody likes it, but it is needed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athematics of nonlinear equations (chaos theory)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971640" y="3141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onlinear systems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annot be described with linear euqations: example: turbulent motions in ga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971640" y="18446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Hagyományos felfogás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ineáris egyenletek leírják a rendszert – folyamatos függvény, deriválható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Text Box 7"/>
          <p:cNvSpPr/>
          <p:nvPr/>
        </p:nvSpPr>
        <p:spPr>
          <a:xfrm>
            <a:off x="971640" y="24922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emlineáris rendszerek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melyeket nem lehet lineáris egyenletekkel leírni: pl. gázok turbulens viselkedés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3" name="Text Box 8"/>
          <p:cNvSpPr/>
          <p:nvPr/>
        </p:nvSpPr>
        <p:spPr>
          <a:xfrm>
            <a:off x="1042920" y="3213000"/>
            <a:ext cx="7201080" cy="36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omplex rendszereket csak komplex függvényekkel lehet leírni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Text Box 9"/>
          <p:cNvSpPr/>
          <p:nvPr/>
        </p:nvSpPr>
        <p:spPr>
          <a:xfrm>
            <a:off x="2124000" y="3788640"/>
            <a:ext cx="5184720" cy="36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em: egyszerű determinisztikus fügvénny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Text Box 10"/>
          <p:cNvSpPr/>
          <p:nvPr/>
        </p:nvSpPr>
        <p:spPr>
          <a:xfrm>
            <a:off x="1547640" y="4507560"/>
            <a:ext cx="5761080" cy="1522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kezdeti feltételek apró változása a viselkedés nem gyanított gazdagságát adhatj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látszólagos kaotikus viselkedés rendezett strukúrákat, finom és szép ábrázatokat eredményezh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0" dur="3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Text Box 6"/>
          <p:cNvSpPr/>
          <p:nvPr/>
        </p:nvSpPr>
        <p:spPr>
          <a:xfrm>
            <a:off x="1042920" y="1773360"/>
            <a:ext cx="708660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Visszacsatolás és iteráció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gyszerű iteráció nagy  komplexitást hozhat lét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:   x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kx(1-x) , ahol  0 &lt; x &lt; 1  (pék transzformáció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hetetlen megjósolni, bizonyos (nagy számú) lépés után       mi lesz x érté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Text Box 9"/>
          <p:cNvSpPr/>
          <p:nvPr/>
        </p:nvSpPr>
        <p:spPr>
          <a:xfrm>
            <a:off x="1187280" y="486828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emlineáris egyenletek: a viselkedés pontos előrejelzése lehetetl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2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042920" y="1773360"/>
            <a:ext cx="708660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Edward N.Lorenz(1963)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gyszerű három paraméteres egyenletrendszer meteorológiai előrejelzés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egfigyelés: rendkívül érzékeny a kezdeti paraméterek kicsi változására is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előrejelzés lehetetl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illangó-hatás(1979): „Brazilia felett egy pillangó szárnylebbenése akár egy tornádót is okozhat Texas felet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476360" y="4795200"/>
            <a:ext cx="2374920" cy="103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x/dt = R(y-x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y/dt = x(P-z) – 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z/dt = xy - B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58" name="Picture 7" descr="lorenz"/>
          <p:cNvPicPr/>
          <p:nvPr/>
        </p:nvPicPr>
        <p:blipFill>
          <a:blip r:embed="rId3"/>
          <a:stretch/>
        </p:blipFill>
        <p:spPr>
          <a:xfrm>
            <a:off x="4572000" y="4508640"/>
            <a:ext cx="1728720" cy="14904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9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egfigyelés: az előrejelzés lehetetlensége, hogy egy adott időpontban az attraktor a fázistér melyik pontján halad á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971640" y="5444280"/>
            <a:ext cx="7345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lőrejelzés lehetelensége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kaotikus rendszer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káoszelmél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65" name="Picture 7" descr="lorenz"/>
          <p:cNvPicPr/>
          <p:nvPr/>
        </p:nvPicPr>
        <p:blipFill>
          <a:blip r:embed="rId3"/>
          <a:stretch/>
        </p:blipFill>
        <p:spPr>
          <a:xfrm>
            <a:off x="1258920" y="2421000"/>
            <a:ext cx="3314520" cy="285732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8"/>
          <p:cNvSpPr/>
          <p:nvPr/>
        </p:nvSpPr>
        <p:spPr>
          <a:xfrm>
            <a:off x="1258920" y="5876280"/>
            <a:ext cx="6337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áosz elmélet === nemlineáris egyenletek matematikáj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67" name="Picture 9" descr="lorenz-3Dview"/>
          <p:cNvPicPr/>
          <p:nvPr/>
        </p:nvPicPr>
        <p:blipFill>
          <a:blip r:embed="rId4"/>
          <a:stretch/>
        </p:blipFill>
        <p:spPr>
          <a:xfrm>
            <a:off x="5076720" y="278136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8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Matematika- fraktálgeometri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Benoit Mandelbrot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önmagukhoz hasonló geometriai alakok tanulmányozása (felhő: 7 nagyságrend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1619280" y="486828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raktálok: önmagukhoz hasonló alakzakok, önmagukat kicsinyítve tartalmazzá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07520"/>
            <a:ext cx="77724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Please follow next lin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84360" y="1844640"/>
            <a:ext cx="79930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obile teleph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Voice-, picture- and vidoe record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Question-Answer: only if one sence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Who knows the answer, should wait ½ a minu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4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Fraktálgeometria példá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8" name="Text Box 6"/>
          <p:cNvSpPr/>
          <p:nvPr/>
        </p:nvSpPr>
        <p:spPr>
          <a:xfrm>
            <a:off x="1042920" y="1773360"/>
            <a:ext cx="70866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enger szőnyeg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ényszög közepét – oldalak szerint egyharmad arányban – kivágju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ierpinki háromszög</a:t>
            </a: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lyukas háromszö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79" name="Picture 7" descr="sierp-zoom"/>
          <p:cNvPicPr/>
          <p:nvPr/>
        </p:nvPicPr>
        <p:blipFill>
          <a:blip r:embed="rId3"/>
          <a:stretch/>
        </p:blipFill>
        <p:spPr>
          <a:xfrm>
            <a:off x="5867280" y="3645000"/>
            <a:ext cx="2033640" cy="20336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8" descr="Aniteppich"/>
          <p:cNvPicPr/>
          <p:nvPr/>
        </p:nvPicPr>
        <p:blipFill>
          <a:blip r:embed="rId4"/>
          <a:stretch/>
        </p:blipFill>
        <p:spPr>
          <a:xfrm>
            <a:off x="1258920" y="3500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1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1042920" y="1773360"/>
            <a:ext cx="7086600" cy="23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aston Julia (1918)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ulia halmaz Kc azon komplex számok halmaza, amelyekre az iterált négyzetes komplex fügvén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Qc(z) = z2 + 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orlátos mara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c := {c€C;   lim |Qnc(z)| &lt; 0-0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                                                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0-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88" name="Picture 5" descr="Julia_set"/>
          <p:cNvPicPr/>
          <p:nvPr/>
        </p:nvPicPr>
        <p:blipFill>
          <a:blip r:embed="rId1"/>
          <a:stretch/>
        </p:blipFill>
        <p:spPr>
          <a:xfrm>
            <a:off x="826920" y="1341360"/>
            <a:ext cx="7272360" cy="40896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0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91" name="Picture 5" descr="julia_red"/>
          <p:cNvPicPr/>
          <p:nvPr/>
        </p:nvPicPr>
        <p:blipFill>
          <a:blip r:embed="rId1"/>
          <a:stretch/>
        </p:blipFill>
        <p:spPr>
          <a:xfrm>
            <a:off x="1547640" y="1268280"/>
            <a:ext cx="5759640" cy="51087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3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94" name="Picture 5" descr="Mandel-Julia"/>
          <p:cNvPicPr/>
          <p:nvPr/>
        </p:nvPicPr>
        <p:blipFill>
          <a:blip r:embed="rId1"/>
          <a:stretch/>
        </p:blipFill>
        <p:spPr>
          <a:xfrm>
            <a:off x="1908000" y="1700280"/>
            <a:ext cx="4969080" cy="37306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97" name="Picture 5" descr="600px-Julia"/>
          <p:cNvPicPr/>
          <p:nvPr/>
        </p:nvPicPr>
        <p:blipFill>
          <a:blip r:embed="rId1"/>
          <a:stretch/>
        </p:blipFill>
        <p:spPr>
          <a:xfrm>
            <a:off x="2050920" y="1413000"/>
            <a:ext cx="5067360" cy="5067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8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Fraktálok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900000" y="21337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Milyen különbségek vannak az előző két kép között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1403280" y="3788640"/>
            <a:ext cx="633744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ülönálló területek, vagy egy összefüggő ábr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4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ndelbrot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1042920" y="1773360"/>
            <a:ext cx="708660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andelbrot halmaz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on komplex számok halmaza, amelyekre z = (o + i0) kezdőértékkel az iterált négyzetes komplex fügvén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Qc(z) = z2 + 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orlátos mara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c := {c€C;   lim |Qnc(0)| &lt; 0-0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                                                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0-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9" name="Text Box 6"/>
          <p:cNvSpPr/>
          <p:nvPr/>
        </p:nvSpPr>
        <p:spPr>
          <a:xfrm>
            <a:off x="1547640" y="4579920"/>
            <a:ext cx="5761080" cy="6998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andelbrot halmaz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Julia halmaz a z=0 kezdőértékk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Text Box 7"/>
          <p:cNvSpPr/>
          <p:nvPr/>
        </p:nvSpPr>
        <p:spPr>
          <a:xfrm>
            <a:off x="1547640" y="552384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Julia sejtése: ezek a halmazok összefüggő területet adna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ndelbrot: alma-emberk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3" name="Picture 5" descr="Mandelbrot-Menge_farbig"/>
          <p:cNvPicPr/>
          <p:nvPr/>
        </p:nvPicPr>
        <p:blipFill>
          <a:blip r:embed="rId1"/>
          <a:stretch/>
        </p:blipFill>
        <p:spPr>
          <a:xfrm>
            <a:off x="1258920" y="1557360"/>
            <a:ext cx="6656400" cy="49928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Alma-emberke részle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6" name="Picture 5" descr="db_Chaos-Mandelbrot1"/>
          <p:cNvPicPr/>
          <p:nvPr/>
        </p:nvPicPr>
        <p:blipFill>
          <a:blip r:embed="rId1"/>
          <a:stretch/>
        </p:blipFill>
        <p:spPr>
          <a:xfrm>
            <a:off x="1258920" y="1557360"/>
            <a:ext cx="6337440" cy="49482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07520"/>
            <a:ext cx="77724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Cont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Text Box 2053"/>
          <p:cNvSpPr/>
          <p:nvPr/>
        </p:nvSpPr>
        <p:spPr>
          <a:xfrm>
            <a:off x="684360" y="1844640"/>
            <a:ext cx="79930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bout systems with learning capabiliti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Relation: learning systems and IT architectu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xamples (IT architectur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Where we may learn (what are we doing wrong?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Rectangle 207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Alma-emberke részle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9" name="Picture 5" descr="abfluss"/>
          <p:cNvPicPr/>
          <p:nvPr/>
        </p:nvPicPr>
        <p:blipFill>
          <a:blip r:embed="rId1"/>
          <a:stretch/>
        </p:blipFill>
        <p:spPr>
          <a:xfrm>
            <a:off x="1547640" y="1700280"/>
            <a:ext cx="5545440" cy="41590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0" name="Object 2"/>
          <p:cNvGraphicFramePr/>
          <p:nvPr/>
        </p:nvGraphicFramePr>
        <p:xfrm>
          <a:off x="684360" y="1628640"/>
          <a:ext cx="7848360" cy="47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628640"/>
                    <a:ext cx="784836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Miért érekes a Mandelbrot halmaz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971640" y="2133720"/>
            <a:ext cx="7086600" cy="34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ulia halmazt értékelhetjük úgy, mint egy fázistér-ábr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sak azok a Julia ábrák érdekesek, amelyekben a halmazelemek összefüggő területet alkotna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mennyiben egy rendszert csak ezen a területen belül engedjül létezni, a rendszer működőképes (korlátos) maradha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gy – nemlineáris egyenletekkel leírt – rendszer stabilitása nagyon érzékeny a pontos kezdeti feltételek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egjegyzés: nincs kijelentésünk a gyűjtőpontok (attraktor) számáról – Lorenz attraktor: 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5" name="Text Box 7"/>
          <p:cNvSpPr/>
          <p:nvPr/>
        </p:nvSpPr>
        <p:spPr>
          <a:xfrm>
            <a:off x="1403280" y="5804640"/>
            <a:ext cx="576108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Mandelbrot halmaz szélei fraktálo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Fraktálok - kép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28" name="Picture 5" descr="800px-Mandelbrotmenge_Orbit_Alle"/>
          <p:cNvPicPr/>
          <p:nvPr/>
        </p:nvPicPr>
        <p:blipFill>
          <a:blip r:embed="rId1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9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6. Szemléletbeli problémá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971640" y="2133720"/>
            <a:ext cx="70866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anulás folyamatában döntések egy része nem determinisztiku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: repülőtér, két kijára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1116000" y="4651920"/>
            <a:ext cx="6912000" cy="974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valós életben a döntések egy része nem előre meghatározott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z hozzájárul ahhoz, hogy tudunk tanulni (alkalmazkodni)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5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6. Szemléletbeli problémá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1042920" y="1773360"/>
            <a:ext cx="708660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anulás folyamatában döntések egy része nem determinisztiku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ha a döntés nem manifelsztálódik a külső vagy belső modellb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 „alkotó” soha nem tudja meg, mikor miért döntött a rendszer úgy ahogy tett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eljes tanulási folyamat nem ismételhető meg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terminisztikusa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1332000" y="4941000"/>
            <a:ext cx="648000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z az a pont, ahol a műszaki embereket kirázza a hideg!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1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hat we have miss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i az a jelenség vagy folyamat, ami jellemző a tanulóképes rendszerekre, és még nem volt róla szó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1187280" y="3283920"/>
            <a:ext cx="648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ire iszik a magyar ember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hat we have miss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AutoShape 7"/>
          <p:cNvSpPr/>
          <p:nvPr/>
        </p:nvSpPr>
        <p:spPr>
          <a:xfrm>
            <a:off x="1403280" y="2133720"/>
            <a:ext cx="720720" cy="647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0" name="AutoShape 8"/>
          <p:cNvSpPr/>
          <p:nvPr/>
        </p:nvSpPr>
        <p:spPr>
          <a:xfrm>
            <a:off x="2700360" y="2205000"/>
            <a:ext cx="136692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percep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1" name="AutoShape 9"/>
          <p:cNvSpPr/>
          <p:nvPr/>
        </p:nvSpPr>
        <p:spPr>
          <a:xfrm>
            <a:off x="2700360" y="3141720"/>
            <a:ext cx="136692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pub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AutoShape 10"/>
          <p:cNvSpPr/>
          <p:nvPr/>
        </p:nvSpPr>
        <p:spPr>
          <a:xfrm>
            <a:off x="4932360" y="3141720"/>
            <a:ext cx="136692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discuss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Rectangle 11"/>
          <p:cNvSpPr/>
          <p:nvPr/>
        </p:nvSpPr>
        <p:spPr>
          <a:xfrm>
            <a:off x="6804000" y="2276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less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4" name="Rectangle 12"/>
          <p:cNvSpPr/>
          <p:nvPr/>
        </p:nvSpPr>
        <p:spPr>
          <a:xfrm>
            <a:off x="4932360" y="4076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not importa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AutoShape 13"/>
          <p:cNvSpPr/>
          <p:nvPr/>
        </p:nvSpPr>
        <p:spPr>
          <a:xfrm>
            <a:off x="5003640" y="4941720"/>
            <a:ext cx="136692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forg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6" name="Line 14"/>
          <p:cNvSpPr/>
          <p:nvPr/>
        </p:nvSpPr>
        <p:spPr>
          <a:xfrm>
            <a:off x="2340000" y="2421000"/>
            <a:ext cx="287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7" name="Line 15"/>
          <p:cNvSpPr/>
          <p:nvPr/>
        </p:nvSpPr>
        <p:spPr>
          <a:xfrm>
            <a:off x="3348000" y="270828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8" name="Line 16"/>
          <p:cNvSpPr/>
          <p:nvPr/>
        </p:nvSpPr>
        <p:spPr>
          <a:xfrm>
            <a:off x="4211640" y="335772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9" name="Line 17"/>
          <p:cNvSpPr/>
          <p:nvPr/>
        </p:nvSpPr>
        <p:spPr>
          <a:xfrm flipV="1">
            <a:off x="6443640" y="2707920"/>
            <a:ext cx="72072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0" name="Line 18"/>
          <p:cNvSpPr/>
          <p:nvPr/>
        </p:nvSpPr>
        <p:spPr>
          <a:xfrm>
            <a:off x="5651640" y="364500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Line 19"/>
          <p:cNvSpPr/>
          <p:nvPr/>
        </p:nvSpPr>
        <p:spPr>
          <a:xfrm>
            <a:off x="5651640" y="4508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600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800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2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hat we have miss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1042920" y="177336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Lot of old reactions is unnesessary in the new situa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What won’t be needed: should be forgott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1187280" y="3283920"/>
            <a:ext cx="648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omething to forget: may be consiou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8" name="Text Box 7"/>
          <p:cNvSpPr/>
          <p:nvPr/>
        </p:nvSpPr>
        <p:spPr>
          <a:xfrm>
            <a:off x="1187280" y="4075920"/>
            <a:ext cx="648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istinction between important and not importa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9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hat we have miss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971640" y="2421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not important – forgetting - percep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4" name="Text Box 6"/>
          <p:cNvSpPr/>
          <p:nvPr/>
        </p:nvSpPr>
        <p:spPr>
          <a:xfrm>
            <a:off x="971640" y="4652280"/>
            <a:ext cx="648000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 észlelést tudatunk – a lényeges, lényegtelen alapján –  jelentősen befolyásolj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1042920" y="2997360"/>
            <a:ext cx="70866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, hogy mit tartunk lényegtelennek, észlelésünket is befolyásolja. Nagyon jelentőse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6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8. Technikai rendszere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0" name="Text Box 8"/>
          <p:cNvSpPr/>
          <p:nvPr/>
        </p:nvSpPr>
        <p:spPr>
          <a:xfrm>
            <a:off x="971640" y="1844640"/>
            <a:ext cx="708660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Tanulóképes technikai rendszer reprodukciója (másolása)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 reprodukciója egyszerű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már „tanult” rendszer másolása csak akkor egyszerű, ha a rendszer működés közben is fizikailag jól körülhatárolt és elválaszható környezetétő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1" name="Text Box 9"/>
          <p:cNvSpPr/>
          <p:nvPr/>
        </p:nvSpPr>
        <p:spPr>
          <a:xfrm>
            <a:off x="1116000" y="400536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: tanított ideghálózat-szimuláció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(férfi-nő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280" y="2637000"/>
            <a:ext cx="727884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</a:rPr>
              <a:t>P A R T</a:t>
            </a:r>
            <a:br>
              <a:rPr sz="4000"/>
            </a:br>
            <a:r>
              <a:rPr b="0" lang="hu-HU" sz="4000" spc="-1" strike="noStrike">
                <a:solidFill>
                  <a:srgbClr val="e3e3ff"/>
                </a:solidFill>
                <a:latin typeface="Arial"/>
              </a:rPr>
              <a:t>1 / 4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8. Technikai rendszere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Tanulóképes technikai rendszer önreprodukciója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nem foglalkozunk ve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1116000" y="4005360"/>
            <a:ext cx="70866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zámítógép vírusok: adaptációra képes „alkotások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Kérdés: hogyan vizsgálják meg, hogy befogadót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(az adott számítógépet) már megfertőződöt-e az adott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vírustól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8" name="Object 2"/>
          <p:cNvGraphicFramePr/>
          <p:nvPr/>
        </p:nvGraphicFramePr>
        <p:xfrm>
          <a:off x="395280" y="1773360"/>
          <a:ext cx="845820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84582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0" name="Rectangle 3"/>
          <p:cNvSpPr/>
          <p:nvPr/>
        </p:nvSpPr>
        <p:spPr>
          <a:xfrm>
            <a:off x="468360" y="2924280"/>
            <a:ext cx="8064360" cy="3384360"/>
          </a:xfrm>
          <a:prstGeom prst="rect">
            <a:avLst/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1" name="AutoShape 4"/>
          <p:cNvSpPr/>
          <p:nvPr/>
        </p:nvSpPr>
        <p:spPr>
          <a:xfrm>
            <a:off x="539640" y="3933720"/>
            <a:ext cx="6191280" cy="180036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1048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9</a:t>
            </a:r>
            <a:r>
              <a:rPr b="0" lang="en-IE" sz="4400" spc="-1" strike="noStrike">
                <a:solidFill>
                  <a:srgbClr val="e3e3ff"/>
                </a:solidFill>
                <a:latin typeface="Arial"/>
                <a:ea typeface="Arial"/>
              </a:rPr>
              <a:t>. </a:t>
            </a: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Summar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3" name="Text Box 6"/>
          <p:cNvSpPr/>
          <p:nvPr/>
        </p:nvSpPr>
        <p:spPr>
          <a:xfrm>
            <a:off x="539640" y="177336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ystems with learning capabiliti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4" name="Rectangle 7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5" name="Text Box 8"/>
          <p:cNvSpPr/>
          <p:nvPr/>
        </p:nvSpPr>
        <p:spPr>
          <a:xfrm>
            <a:off x="3564000" y="2276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nwironme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6" name="AutoShape 9"/>
          <p:cNvSpPr/>
          <p:nvPr/>
        </p:nvSpPr>
        <p:spPr>
          <a:xfrm>
            <a:off x="2843280" y="3141720"/>
            <a:ext cx="136692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percep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AutoShape 10"/>
          <p:cNvSpPr/>
          <p:nvPr/>
        </p:nvSpPr>
        <p:spPr>
          <a:xfrm>
            <a:off x="3132000" y="4437000"/>
            <a:ext cx="136692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decision d/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8" name="Rectangle 11"/>
          <p:cNvSpPr/>
          <p:nvPr/>
        </p:nvSpPr>
        <p:spPr>
          <a:xfrm>
            <a:off x="684360" y="4437000"/>
            <a:ext cx="143964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importa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Rectangle 12"/>
          <p:cNvSpPr/>
          <p:nvPr/>
        </p:nvSpPr>
        <p:spPr>
          <a:xfrm>
            <a:off x="3995640" y="5084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ista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0" name="Line 13"/>
          <p:cNvSpPr/>
          <p:nvPr/>
        </p:nvSpPr>
        <p:spPr>
          <a:xfrm>
            <a:off x="3492360" y="2708280"/>
            <a:ext cx="0" cy="50472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1" name="Rectangle 14"/>
          <p:cNvSpPr/>
          <p:nvPr/>
        </p:nvSpPr>
        <p:spPr>
          <a:xfrm>
            <a:off x="1908000" y="5084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han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Line 15"/>
          <p:cNvSpPr/>
          <p:nvPr/>
        </p:nvSpPr>
        <p:spPr>
          <a:xfrm flipV="1">
            <a:off x="1403280" y="3573000"/>
            <a:ext cx="1297080" cy="64764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Line 16"/>
          <p:cNvSpPr/>
          <p:nvPr/>
        </p:nvSpPr>
        <p:spPr>
          <a:xfrm>
            <a:off x="3492360" y="3645000"/>
            <a:ext cx="358920" cy="57600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4" name="Line 17"/>
          <p:cNvSpPr/>
          <p:nvPr/>
        </p:nvSpPr>
        <p:spPr>
          <a:xfrm flipH="1">
            <a:off x="2627280" y="4724280"/>
            <a:ext cx="432000" cy="289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5" name="Line 18"/>
          <p:cNvSpPr/>
          <p:nvPr/>
        </p:nvSpPr>
        <p:spPr>
          <a:xfrm>
            <a:off x="4572000" y="4724280"/>
            <a:ext cx="287280" cy="36036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Line 19"/>
          <p:cNvSpPr/>
          <p:nvPr/>
        </p:nvSpPr>
        <p:spPr>
          <a:xfrm flipH="1">
            <a:off x="2268000" y="4581360"/>
            <a:ext cx="721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AutoShape 20"/>
          <p:cNvSpPr/>
          <p:nvPr/>
        </p:nvSpPr>
        <p:spPr>
          <a:xfrm>
            <a:off x="6804000" y="4221000"/>
            <a:ext cx="1655640" cy="792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obliv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Line 21"/>
          <p:cNvSpPr/>
          <p:nvPr/>
        </p:nvSpPr>
        <p:spPr>
          <a:xfrm>
            <a:off x="6372360" y="4508640"/>
            <a:ext cx="433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Line 22"/>
          <p:cNvSpPr/>
          <p:nvPr/>
        </p:nvSpPr>
        <p:spPr>
          <a:xfrm flipH="1">
            <a:off x="6372000" y="4724280"/>
            <a:ext cx="43164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Text Box 23"/>
          <p:cNvSpPr/>
          <p:nvPr/>
        </p:nvSpPr>
        <p:spPr>
          <a:xfrm>
            <a:off x="5003640" y="537372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1" name="Text Box 24"/>
          <p:cNvSpPr/>
          <p:nvPr/>
        </p:nvSpPr>
        <p:spPr>
          <a:xfrm>
            <a:off x="1979640" y="587700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instabile system with a lot of negative and positive loopback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AutoShape 25"/>
          <p:cNvSpPr/>
          <p:nvPr/>
        </p:nvSpPr>
        <p:spPr>
          <a:xfrm>
            <a:off x="4500720" y="3141720"/>
            <a:ext cx="136656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influenc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Line 26"/>
          <p:cNvSpPr/>
          <p:nvPr/>
        </p:nvSpPr>
        <p:spPr>
          <a:xfrm flipV="1">
            <a:off x="4284720" y="3645000"/>
            <a:ext cx="647640" cy="57600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4" name="Line 27"/>
          <p:cNvSpPr/>
          <p:nvPr/>
        </p:nvSpPr>
        <p:spPr>
          <a:xfrm flipV="1">
            <a:off x="5076720" y="2708280"/>
            <a:ext cx="0" cy="5032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55280" y="2637000"/>
            <a:ext cx="727884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</a:rPr>
              <a:t>END OF  PART</a:t>
            </a:r>
            <a:br>
              <a:rPr sz="4000"/>
            </a:br>
            <a:r>
              <a:rPr b="0" lang="hu-HU" sz="4000" spc="-1" strike="noStrike">
                <a:solidFill>
                  <a:srgbClr val="e3e3ff"/>
                </a:solidFill>
                <a:latin typeface="Arial"/>
              </a:rPr>
              <a:t>1 / 4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bout IT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rchitecture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This is a real technical issu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Examples (IT architecture)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1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Is this not boring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3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What we can do it better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(what is wrong?)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4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Common knowledge is common treasur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6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What is your view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bout learning?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7" name="Rectangle 4"/>
          <p:cNvSpPr/>
          <p:nvPr/>
        </p:nvSpPr>
        <p:spPr>
          <a:xfrm>
            <a:off x="2268360" y="4365720"/>
            <a:ext cx="489600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Thank for your attention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55280" y="2997360"/>
            <a:ext cx="727884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bout systems with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learning capabilities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What is your view about learning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View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900000" y="2133720"/>
            <a:ext cx="693432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zemlélet: egy adott témához kapcsolódó felfogás vagy álláspo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Felfogás: gondolkodásmód, elképzel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ondolkodásmód: mód, aholgyan gondolkodunk (spontán, érzelemmel, racionálisan,..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ondolkodás: belső elfoglaltság, amikor megpróbálunk egy felismerést megfogalmazni,elképzelések, emlékek és fogalmak alapjá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2124000" y="5589000"/>
            <a:ext cx="446580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szemlélet alapja a hit, vagy a tud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Object 2"/>
          <p:cNvGraphicFramePr/>
          <p:nvPr/>
        </p:nvGraphicFramePr>
        <p:xfrm>
          <a:off x="468360" y="184464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Capable of learn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900000" y="2133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What is the criterion to be able to learn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3203640" y="3645000"/>
            <a:ext cx="2808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learn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Line 9"/>
          <p:cNvSpPr/>
          <p:nvPr/>
        </p:nvSpPr>
        <p:spPr>
          <a:xfrm>
            <a:off x="2124000" y="4653000"/>
            <a:ext cx="489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4500720" y="4292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Line 11"/>
          <p:cNvSpPr/>
          <p:nvPr/>
        </p:nvSpPr>
        <p:spPr>
          <a:xfrm>
            <a:off x="2124000" y="4653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Line 12"/>
          <p:cNvSpPr/>
          <p:nvPr/>
        </p:nvSpPr>
        <p:spPr>
          <a:xfrm>
            <a:off x="7020000" y="4653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AutoShape 13"/>
          <p:cNvSpPr/>
          <p:nvPr/>
        </p:nvSpPr>
        <p:spPr>
          <a:xfrm>
            <a:off x="1187280" y="5013360"/>
            <a:ext cx="194328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kill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AutoShape 14"/>
          <p:cNvSpPr/>
          <p:nvPr/>
        </p:nvSpPr>
        <p:spPr>
          <a:xfrm>
            <a:off x="5940360" y="5013360"/>
            <a:ext cx="194328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own decis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Text Box 15"/>
          <p:cNvSpPr/>
          <p:nvPr/>
        </p:nvSpPr>
        <p:spPr>
          <a:xfrm>
            <a:off x="611280" y="5804640"/>
            <a:ext cx="324000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what and how: will be giv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4788000" y="5804640"/>
            <a:ext cx="345600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aking own capability bett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1835280" y="2923560"/>
            <a:ext cx="51847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Can good adapt to changing environme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AutoShape 18"/>
          <p:cNvSpPr/>
          <p:nvPr/>
        </p:nvSpPr>
        <p:spPr>
          <a:xfrm>
            <a:off x="7236000" y="4221000"/>
            <a:ext cx="720720" cy="648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7T10:09:43Z</dcterms:created>
  <dc:creator>www.xplanet.hu</dc:creator>
  <dc:description/>
  <dc:language>en-US</dc:language>
  <cp:lastModifiedBy>Gyorgy Varga</cp:lastModifiedBy>
  <dcterms:modified xsi:type="dcterms:W3CDTF">2013-01-04T19:45:16Z</dcterms:modified>
  <cp:revision>1598</cp:revision>
  <dc:subject/>
  <dc:title>J2EE-001-VargaGy</dc:title>
</cp:coreProperties>
</file>